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5.png" ContentType="image/png"/>
  <Override PartName="/ppt/media/image14.jpeg" ContentType="image/jpeg"/>
  <Override PartName="/ppt/media/image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1440" y="0"/>
            <a:ext cx="1800" cy="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l-G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927BA-7182-4A91-8439-906C18EBC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33F7C-7066-432D-B5D7-6153E7A85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B814A-8101-4B11-9406-728A09D2C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20D49-92A3-4EF2-8039-0AB21C5E5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9D85B-4A93-4450-8132-7EFF0FA27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C3EEB-1CA6-4A33-883F-86EAF1E96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839F1-D7F8-4A29-B8F4-535DDB363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A54C5-1805-429F-9A41-DA1705379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8F1F2-A509-4066-8468-C618F062E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6AD7E-8E44-4378-B2D4-B3C008611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0230-3225-4D6B-A8D1-E3E58E90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FA9D5-54E0-40BD-8572-0EF8A33DC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l-GR" sz="14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78370C-80DB-4BC9-989A-71C7C7775616}"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2"/>
          <p:cNvSpPr/>
          <p:nvPr/>
        </p:nvSpPr>
        <p:spPr>
          <a:xfrm>
            <a:off x="457200" y="1600200"/>
            <a:ext cx="7786800" cy="3475080"/>
          </a:xfrm>
          <a:prstGeom prst="rect">
            <a:avLst/>
          </a:prstGeom>
          <a:noFill/>
          <a:ln w="0">
            <a:noFill/>
          </a:ln>
        </p:spPr>
        <p:style>
          <a:lnRef idx="0"/>
          <a:fillRef idx="0"/>
          <a:effectRef idx="0"/>
          <a:fontRef idx="minor"/>
        </p:style>
        <p:txBody>
          <a:bodyPr lIns="90000" rIns="90000" tIns="46800" bIns="46800" anchor="t">
            <a:noAutofit/>
          </a:bodyPr>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i="1" lang="en-GB" sz="6000" spc="-1" strike="noStrike">
                <a:solidFill>
                  <a:srgbClr val="333399"/>
                </a:solidFill>
                <a:latin typeface="Goudy Stout"/>
              </a:rPr>
              <a:t>GRAFFITI και ΝΕΟΙ</a:t>
            </a:r>
            <a:endParaRPr b="0" lang="en-US" sz="6000" spc="-1" strike="noStrike">
              <a:solidFill>
                <a:srgbClr val="000000"/>
              </a:solidFill>
              <a:latin typeface="Arial"/>
            </a:endParaRPr>
          </a:p>
          <a:p>
            <a:pPr marL="339840" indent="-339840" algn="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60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a:p>
            <a:pPr marL="339840" indent="-339840" algn="ctr">
              <a:lnSpc>
                <a:spcPct val="100000"/>
              </a:lnSpc>
              <a:spcBef>
                <a:spcPts val="11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4800" spc="-1" strike="noStrike">
              <a:solidFill>
                <a:srgbClr val="000000"/>
              </a:solidFill>
              <a:latin typeface="Arial"/>
            </a:endParaRPr>
          </a:p>
        </p:txBody>
      </p:sp>
      <p:sp>
        <p:nvSpPr>
          <p:cNvPr id="46" name="PlaceHolder 1"/>
          <p:cNvSpPr>
            <a:spLocks noGrp="1"/>
          </p:cNvSpPr>
          <p:nvPr>
            <p:ph/>
          </p:nvPr>
        </p:nvSpPr>
        <p:spPr>
          <a:xfrm>
            <a:off x="781200" y="4076640"/>
            <a:ext cx="8362800" cy="258624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ΟΝΟΜΑΤΑ ΜΑΘΗΤΩΝ:</a:t>
            </a:r>
            <a:endParaRPr b="0" lang="en-US" sz="18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Black"/>
              </a:rPr>
              <a:t>Παπαδοπούλου Χάιδω</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Black"/>
              </a:rPr>
              <a:t>Μακρή Ζωγραφιά</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ΣΧΟΛΙΚΟ ΕΤΟΣ 2008-09</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ΥΠΕΥΘΥΝΗ ΚΑΘΗΓΗΤΡΙΑ: Κ. ΚΑΡΑΘΑΝΑΣΗ</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Rectangle 4"/>
          <p:cNvSpPr/>
          <p:nvPr/>
        </p:nvSpPr>
        <p:spPr>
          <a:xfrm>
            <a:off x="539640" y="333360"/>
            <a:ext cx="3600720" cy="52020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993300"/>
                </a:solidFill>
                <a:latin typeface="Arial"/>
              </a:rPr>
              <a:t>3o ΓΕΝΙΚΟ ΛΥΚΕΙΟ ΜΥΤΙΛΗΝΗΣ</a:t>
            </a:r>
            <a:br>
              <a:rPr sz="1400"/>
            </a:br>
            <a:r>
              <a:rPr b="1" lang="en-GB" sz="1400" spc="-1" strike="noStrike">
                <a:solidFill>
                  <a:srgbClr val="993300"/>
                </a:solidFill>
                <a:latin typeface="Arial"/>
              </a:rPr>
              <a:t>ΤΕΧΝΟΛΟΓΙΑ Ά ΤΑΞΗΣ</a:t>
            </a:r>
            <a:endParaRPr b="0" lang="en-US" sz="1400" spc="-1" strike="noStrike">
              <a:solidFill>
                <a:srgbClr val="000000"/>
              </a:solidFill>
              <a:latin typeface="Arial"/>
            </a:endParaRPr>
          </a:p>
        </p:txBody>
      </p:sp>
      <p:pic>
        <p:nvPicPr>
          <p:cNvPr id="48" name="Gangsta Boo - Both Worlds, 69 - 06 - Can I Get Paid (Get Your Broke Ass Out) (Da Strippers' Anthem).mp3" descr=""/>
          <p:cNvPicPr/>
          <p:nvPr/>
        </p:nvPicPr>
        <p:blipFill>
          <a:blip r:embed="rId2"/>
          <a:stretch/>
        </p:blipFill>
        <p:spPr>
          <a:xfrm>
            <a:off x="4419720" y="3276720"/>
            <a:ext cx="304560" cy="304560"/>
          </a:xfrm>
          <a:prstGeom prst="rect">
            <a:avLst/>
          </a:prstGeom>
          <a:ln w="0">
            <a:noFill/>
          </a:ln>
        </p:spPr>
      </p:pic>
      <p:pic>
        <p:nvPicPr>
          <p:cNvPr id="49" name="Gangsta Boo - Both Worlds, 69 - 06 - Can I Get Paid (Get Your Broke Ass Out) (Da Strippers' Anthem).mp3" descr=""/>
          <p:cNvPicPr/>
          <p:nvPr/>
        </p:nvPicPr>
        <p:blipFill>
          <a:blip r:embed="rId3"/>
          <a:stretch/>
        </p:blipFill>
        <p:spPr>
          <a:xfrm>
            <a:off x="4419720" y="3276720"/>
            <a:ext cx="304560" cy="304560"/>
          </a:xfrm>
          <a:prstGeom prst="rect">
            <a:avLst/>
          </a:prstGeom>
          <a:ln w="0">
            <a:noFill/>
          </a:ln>
        </p:spPr>
      </p:pic>
      <p:pic>
        <p:nvPicPr>
          <p:cNvPr id="50" name="FloRida Feat. Timbaland - Elevator.mp3" descr=""/>
          <p:cNvPicPr/>
          <p:nvPr/>
        </p:nvPicPr>
        <p:blipFill>
          <a:blip r:embed="rId4"/>
          <a:stretch/>
        </p:blipFill>
        <p:spPr>
          <a:xfrm>
            <a:off x="4419720" y="3276720"/>
            <a:ext cx="304560" cy="304560"/>
          </a:xfrm>
          <a:prstGeom prst="rect">
            <a:avLst/>
          </a:prstGeom>
          <a:ln w="0">
            <a:noFill/>
          </a:ln>
        </p:spPr>
      </p:pic>
      <p:pic>
        <p:nvPicPr>
          <p:cNvPr id="51" name="Elevator.wma" descr=""/>
          <p:cNvPicPr/>
          <p:nvPr/>
        </p:nvPicPr>
        <p:blipFill>
          <a:blip r:embed="rId5"/>
          <a:stretch/>
        </p:blipFill>
        <p:spPr>
          <a:xfrm>
            <a:off x="4419720" y="3276720"/>
            <a:ext cx="304560" cy="3045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graffiti3"/>
          <p:cNvPicPr/>
          <p:nvPr/>
        </p:nvPicPr>
        <p:blipFill>
          <a:blip r:embed="rId1"/>
          <a:stretch/>
        </p:blipFill>
        <p:spPr>
          <a:xfrm>
            <a:off x="0" y="0"/>
            <a:ext cx="9144000" cy="6858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u="sng">
                <a:solidFill>
                  <a:srgbClr val="003300"/>
                </a:solidFill>
                <a:uFillTx/>
                <a:latin typeface="Arial"/>
              </a:rPr>
              <a:t>Το </a:t>
            </a:r>
            <a:r>
              <a:rPr b="0" i="1" lang="de-DE" sz="4400" spc="-1" strike="noStrike" u="sng">
                <a:solidFill>
                  <a:srgbClr val="003300"/>
                </a:solidFill>
                <a:uFillTx/>
                <a:latin typeface="Arial"/>
              </a:rPr>
              <a:t>Graffiti</a:t>
            </a:r>
            <a:r>
              <a:rPr b="0" i="1" lang="el-GR" sz="4400" spc="-1" strike="noStrike" u="sng">
                <a:solidFill>
                  <a:srgbClr val="003300"/>
                </a:solidFill>
                <a:uFillTx/>
                <a:latin typeface="Arial"/>
              </a:rPr>
              <a:t> στην Ελλάδα</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178920" y="1600200"/>
            <a:ext cx="8504280" cy="4781520"/>
          </a:xfrm>
          <a:prstGeom prst="rect">
            <a:avLst/>
          </a:prstGeom>
          <a:noFill/>
          <a:ln w="0">
            <a:noFill/>
          </a:ln>
        </p:spPr>
        <p:txBody>
          <a:bodyPr anchor="t">
            <a:normAutofit fontScale="96000"/>
          </a:bodyPr>
          <a:p>
            <a:pPr marL="329040" indent="-329040">
              <a:lnSpc>
                <a:spcPct val="80000"/>
              </a:lnSpc>
              <a:spcBef>
                <a:spcPts val="4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3300"/>
                </a:solidFill>
                <a:latin typeface="Arial"/>
              </a:rPr>
              <a:t>Σε αντίθεση με τα αστικά γκέτο των Η.Π.Α., στην Ελλάδα το γκράφιτι δεν αποτελεί έκφραση του περιθωρίου. Μάλιστα επειδή τα σπρέι είναι αρκετά ακριβά, θεωρείται ακριβό χόμπι και πολλοί από τους νεαρούς γκραφιτάδες ανήκουν πλέον στην αστική και μεγαλοαστική τάξη. Οι περισσότεροι είναι ηλικίας 12-30, βγαίνουν σε ομάδες όταν πέσει η νύχτα και στόχο έχουν να κάνουν την πόλη πιο φωτεινή και χαρούμενη. Το γκράφιτι στην Ελλάδα δεν έχει κάποια συγκεκριμένη ταυτότητα, αν και πολλές φορές συνδέεται με την αμφισβήτηση και την ανυπακοή, καθώς το λεγόμενο </a:t>
            </a:r>
            <a:r>
              <a:rPr b="1" lang="de-DE" sz="1600" spc="-1" strike="noStrike">
                <a:solidFill>
                  <a:srgbClr val="003300"/>
                </a:solidFill>
                <a:latin typeface="Arial"/>
              </a:rPr>
              <a:t>bombig </a:t>
            </a:r>
            <a:r>
              <a:rPr b="1" lang="el-GR" sz="1600" spc="-1" strike="noStrike">
                <a:solidFill>
                  <a:srgbClr val="003300"/>
                </a:solidFill>
                <a:latin typeface="Arial"/>
              </a:rPr>
              <a:t>γίνεται σε απαγορευμένες επιφάνειες. </a:t>
            </a:r>
            <a:br>
              <a:rPr sz="1600"/>
            </a:br>
            <a:r>
              <a:rPr b="1" lang="el-GR" sz="1600" spc="-1" strike="noStrike">
                <a:solidFill>
                  <a:srgbClr val="003300"/>
                </a:solidFill>
                <a:latin typeface="Arial"/>
              </a:rPr>
              <a:t>Όλες οι ομάδες </a:t>
            </a:r>
            <a:r>
              <a:rPr b="1" lang="de-DE" sz="1600" spc="-1" strike="noStrike">
                <a:solidFill>
                  <a:srgbClr val="003300"/>
                </a:solidFill>
                <a:latin typeface="Arial"/>
              </a:rPr>
              <a:t>Graffiti </a:t>
            </a:r>
            <a:r>
              <a:rPr b="1" lang="el-GR" sz="1600" spc="-1" strike="noStrike">
                <a:solidFill>
                  <a:srgbClr val="003300"/>
                </a:solidFill>
                <a:latin typeface="Arial"/>
              </a:rPr>
              <a:t>ξεκίνησαν στην Ελλάδα με αφορμή το ελληνικό </a:t>
            </a:r>
            <a:r>
              <a:rPr b="1" lang="de-DE" sz="1600" spc="-1" strike="noStrike">
                <a:solidFill>
                  <a:srgbClr val="003300"/>
                </a:solidFill>
                <a:latin typeface="Arial"/>
              </a:rPr>
              <a:t>Hip Hop</a:t>
            </a:r>
            <a:r>
              <a:rPr b="1" lang="el-GR" sz="1600" spc="-1" strike="noStrike">
                <a:solidFill>
                  <a:srgbClr val="003300"/>
                </a:solidFill>
                <a:latin typeface="Arial"/>
              </a:rPr>
              <a:t> συγκρότημα </a:t>
            </a:r>
            <a:r>
              <a:rPr b="1" lang="de-DE" sz="1600" spc="-1" strike="noStrike">
                <a:solidFill>
                  <a:srgbClr val="003300"/>
                </a:solidFill>
                <a:latin typeface="Arial"/>
              </a:rPr>
              <a:t>TerrorXCrew</a:t>
            </a:r>
            <a:r>
              <a:rPr b="1" lang="el-GR" sz="1600" spc="-1" strike="noStrike">
                <a:solidFill>
                  <a:srgbClr val="003300"/>
                </a:solidFill>
                <a:latin typeface="Arial"/>
              </a:rPr>
              <a:t>.</a:t>
            </a:r>
            <a:r>
              <a:rPr b="1" lang="de-DE" sz="1600" spc="-1" strike="noStrike">
                <a:solidFill>
                  <a:srgbClr val="003300"/>
                </a:solidFill>
                <a:latin typeface="Arial"/>
              </a:rPr>
              <a:t>To</a:t>
            </a:r>
            <a:r>
              <a:rPr b="1" lang="el-GR" sz="1600" spc="-1" strike="noStrike">
                <a:solidFill>
                  <a:srgbClr val="003300"/>
                </a:solidFill>
                <a:latin typeface="Arial"/>
              </a:rPr>
              <a:t> πρώτο </a:t>
            </a:r>
            <a:r>
              <a:rPr b="1" lang="de-DE" sz="1600" spc="-1" strike="noStrike">
                <a:solidFill>
                  <a:srgbClr val="003300"/>
                </a:solidFill>
                <a:latin typeface="Arial"/>
              </a:rPr>
              <a:t>Wall Fame</a:t>
            </a:r>
            <a:r>
              <a:rPr b="1" lang="el-GR" sz="1600" spc="-1" strike="noStrike">
                <a:solidFill>
                  <a:srgbClr val="003300"/>
                </a:solidFill>
                <a:latin typeface="Arial"/>
              </a:rPr>
              <a:t> έγινε στην Ελλάδα το 1994. Αγαπημένες επιφάνειες οι εξωτερικοί τοίχοι κτιρίων αλλά κι εγκαταλελειμμένα αυτοκίνητα, λεωφορεία, τρένα, ρολά καταστημάτων. Όπως σε κάθε ομάδα έτσι και σ' αυτή των γκραφιτάδων υπάρχουν αξίες όπως η φήμη, η καλλιτεχνική έκφραση, η δύναμη. Ιδιαίτερη βαρύτητα έχει το στυλ. Είναι η προσωπική φωνή που βγαίνει μέσα από το </a:t>
            </a:r>
            <a:r>
              <a:rPr b="1" lang="de-DE" sz="1600" spc="-1" strike="noStrike">
                <a:solidFill>
                  <a:srgbClr val="003300"/>
                </a:solidFill>
                <a:latin typeface="Arial"/>
              </a:rPr>
              <a:t>Graffiti</a:t>
            </a:r>
            <a:r>
              <a:rPr b="1" lang="el-GR" sz="1600" spc="-1" strike="noStrike">
                <a:solidFill>
                  <a:srgbClr val="003300"/>
                </a:solidFill>
                <a:latin typeface="Arial"/>
              </a:rPr>
              <a:t>. Όσο πιο αυθεντικό είναι το στυλ τόσο πιο γνωστός και σεβαστός θα γίνει στο χώρο του ο γκραφιτάς. Ο χώρος του </a:t>
            </a:r>
            <a:r>
              <a:rPr b="1" lang="de-DE" sz="1600" spc="-1" strike="noStrike">
                <a:solidFill>
                  <a:srgbClr val="003300"/>
                </a:solidFill>
                <a:latin typeface="Arial"/>
              </a:rPr>
              <a:t>Graffiti</a:t>
            </a:r>
            <a:r>
              <a:rPr b="1" lang="el-GR" sz="1600" spc="-1" strike="noStrike">
                <a:solidFill>
                  <a:srgbClr val="003300"/>
                </a:solidFill>
                <a:latin typeface="Arial"/>
              </a:rPr>
              <a:t> είναι κατά κύριο λόγο ανδρικός. Οι γυναίκες μειοψηφούν και είναι δύσκολο να καταξιωθούν στο χώρο αυτό. Πολλές είναι εκείνες που χρησιμοποιούν ανδρικά ψευδώνυμα. Τις προδίδει όμως το σχέδιο που συνήθως είναι πιο φωτεινό και φίνο. </a:t>
            </a:r>
            <a:br>
              <a:rPr sz="1600"/>
            </a:br>
            <a:r>
              <a:rPr b="1" lang="el-GR" sz="1600" spc="-1" strike="noStrike">
                <a:solidFill>
                  <a:srgbClr val="003300"/>
                </a:solidFill>
                <a:latin typeface="Arial"/>
              </a:rPr>
              <a:t>Για τη κυρίαρχη κουλτούρα τα </a:t>
            </a:r>
            <a:r>
              <a:rPr b="1" lang="de-DE" sz="1600" spc="-1" strike="noStrike">
                <a:solidFill>
                  <a:srgbClr val="003300"/>
                </a:solidFill>
                <a:latin typeface="Arial"/>
              </a:rPr>
              <a:t>Graffiti</a:t>
            </a:r>
            <a:r>
              <a:rPr b="1" lang="el-GR" sz="1600" spc="-1" strike="noStrike">
                <a:solidFill>
                  <a:srgbClr val="003300"/>
                </a:solidFill>
                <a:latin typeface="Arial"/>
              </a:rPr>
              <a:t> ισοδυναμούν με βανδαλισμό. Οι γκραφιτάδες είναι «οι βάνδαλοι» που καταστρέφουν την αισθητική όψη της πόλης και τα έργα τους είναι «βρομιές» στους τοίχους των κτιρίων. Από την άλλη μεριά το γκράφιτι αναγνωρίζεται πλέον από ένα μεγάλο μέρος  του πληθυσμού ως μορφή τέχνης. Εξάλλου οι δρόμοι της Αθήνας έχουν γεμίσει από δημιουργίες καλλιτεχνών του δρόμου. </a:t>
            </a:r>
            <a:endParaRPr b="0" lang="en-US" sz="16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0" y="0"/>
            <a:ext cx="9144000" cy="6858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lin ang="27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316440"/>
            <a:ext cx="8226360" cy="21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000" spc="-1" strike="noStrike" u="sng">
                <a:solidFill>
                  <a:srgbClr val="000000"/>
                </a:solidFill>
                <a:uFillTx/>
                <a:latin typeface="Arial"/>
              </a:rPr>
              <a:t>Στένσιλ γκραφίτι: Η τεχνική της ρήξης</a:t>
            </a:r>
            <a:endParaRPr b="0" lang="en-US" sz="4000" spc="-1" strike="noStrike">
              <a:solidFill>
                <a:srgbClr val="000000"/>
              </a:solidFill>
              <a:latin typeface="Arial"/>
            </a:endParaRPr>
          </a:p>
        </p:txBody>
      </p:sp>
      <p:sp>
        <p:nvSpPr>
          <p:cNvPr id="69" name="PlaceHolder 2"/>
          <p:cNvSpPr>
            <a:spLocks noGrp="1"/>
          </p:cNvSpPr>
          <p:nvPr>
            <p:ph/>
          </p:nvPr>
        </p:nvSpPr>
        <p:spPr>
          <a:xfrm>
            <a:off x="179280" y="1789200"/>
            <a:ext cx="8686800" cy="5068800"/>
          </a:xfrm>
          <a:prstGeom prst="rect">
            <a:avLst/>
          </a:prstGeom>
          <a:noFill/>
          <a:ln w="0">
            <a:noFill/>
          </a:ln>
        </p:spPr>
        <p:txBody>
          <a:bodyPr anchor="t">
            <a:normAutofit/>
          </a:bodyPr>
          <a:p>
            <a:pPr marL="343080" indent="-343080">
              <a:lnSpc>
                <a:spcPct val="80000"/>
              </a:lnSpc>
              <a:spcBef>
                <a:spcPts val="400"/>
              </a:spcBef>
              <a:buClr>
                <a:srgbClr val="000000"/>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Eras Light ITC"/>
              </a:rPr>
              <a:t>Η περιπλάνηση στους δρόμους της πόλης κρύβει ενίοτε εκπλήξεις στους περιπατητές. Ενίοτε, κι όχι διαρκώς, διότι τα τεχνητά εμπόδια αφθονούν. </a:t>
            </a:r>
            <a:endParaRPr b="0" lang="en-US" sz="1600" spc="-1" strike="noStrike">
              <a:solidFill>
                <a:srgbClr val="000000"/>
              </a:solidFill>
              <a:latin typeface="Arial"/>
            </a:endParaRPr>
          </a:p>
          <a:p>
            <a:pPr marL="343080" indent="-343080">
              <a:lnSpc>
                <a:spcPct val="80000"/>
              </a:lnSpc>
              <a:spcBef>
                <a:spcPts val="249"/>
              </a:spcBef>
              <a:buClr>
                <a:srgbClr val="000000"/>
              </a:buClr>
              <a:buFont typeface="Eras Light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l-GR" sz="1600" spc="-1" strike="noStrike">
                <a:solidFill>
                  <a:srgbClr val="000000"/>
                </a:solidFill>
                <a:latin typeface="Eras Light ITC"/>
              </a:rPr>
              <a:t> </a:t>
            </a:r>
            <a:r>
              <a:rPr b="1" lang="el-GR" sz="1600" spc="-1" strike="noStrike">
                <a:solidFill>
                  <a:srgbClr val="000000"/>
                </a:solidFill>
                <a:latin typeface="Eras Light ITC"/>
              </a:rPr>
              <a:t>Οι διαφημιστικές πινακίδες, οι επιγραφές των καταστημάτων, τα διάφορα εταιρικά μηνύματα συνοψίζουν με την παρουσία τους τη μετανεωτερική υστερία της καθαρής φόρμας και του εύληπτου περιεχομένου, επεκτείνοντας ουσιαστικά τη μονοτονία των καθημερινών διαδρομών και συναγελασμών στο επίπεδο ενός καταναγκαστικού ντιζάιν. Μ' άλλα λόγια, ο περιπλανώμενος στον αθηναϊκό δρόμο παρακολουθεί την εταιρική αφήγηση γραμμικά, από ταμπέλα σε ταμπέλα, σαν να διαβάζει αποσπάσματα κάποιου, έτσι κι αλλιώς θραυσματικού, μυθιστορήματος.</a:t>
            </a:r>
            <a:br>
              <a:rPr sz="1600"/>
            </a:br>
            <a:br>
              <a:rPr sz="1600"/>
            </a:br>
            <a:r>
              <a:rPr b="1" lang="el-GR" sz="1600" spc="-1" strike="noStrike">
                <a:solidFill>
                  <a:srgbClr val="000000"/>
                </a:solidFill>
                <a:latin typeface="Eras Light ITC"/>
              </a:rPr>
              <a:t>Το έργο του as11 (κατά κόσμον Αντώνη Σηφάκη) με τον τίτλο «11': Ταξίδι στις λεωφόρους Μεσογείων και Μαραθώνος», όπως καταγράφεται απομαγνητοφωνημένο στον τόμο «Χωρίς όρια. Οι αχανείς εκτάσεις των αθηναϊκών προαστίων» (εκδ. Futura), αφορά μια τυχαία διαδρομή, κατά τη διάρκεια της οποίας ο επιβαίνων στο αυτοκίνητο επόπτης διαβάζει ό,τι αναγράφεται στις επιγραφές των προσόψεων και στις διαφημιστικές πινακίδες. Το αποτέλεσμα είναι, θα 'λεγε κανείς, ένα ποιητικό ανάγνωσμα για το θρίαμβο της αγοράς πάνω στο βλέμμα. Το αναγνώσιμο θριαμβεύει έναντι του ορατού. Τα ονόματα αποκτούν μεταφυσική αξία και τα μηνύματα προτρέπουν σε μια μεταφορική κατανάλωση, στην κατανάλωση άχρηστων πληροφοριών.</a:t>
            </a:r>
            <a:br>
              <a:rPr sz="1600"/>
            </a:br>
            <a:br>
              <a:rPr sz="1600"/>
            </a:br>
            <a:br>
              <a:rPr sz="1000"/>
            </a:br>
            <a:r>
              <a:rPr b="0" lang="el-GR" sz="1000" spc="-1" strike="noStrike">
                <a:solidFill>
                  <a:srgbClr val="000000"/>
                </a:solidFill>
                <a:latin typeface="Arial"/>
              </a:rPr>
              <a:t> </a:t>
            </a:r>
            <a:endParaRPr b="0" lang="en-US" sz="1000" spc="-1" strike="noStrike">
              <a:solidFill>
                <a:srgbClr val="000000"/>
              </a:solidFill>
              <a:latin typeface="Arial"/>
            </a:endParaRPr>
          </a:p>
        </p:txBody>
      </p:sp>
      <p:pic>
        <p:nvPicPr>
          <p:cNvPr id="70" name="Akon ft. Kardinal Offishall - Dangerous (2008).mp3" descr=""/>
          <p:cNvPicPr/>
          <p:nvPr/>
        </p:nvPicPr>
        <p:blipFill>
          <a:blip r:embed="rId1"/>
          <a:stretch/>
        </p:blipFill>
        <p:spPr>
          <a:xfrm>
            <a:off x="4427640" y="3284640"/>
            <a:ext cx="304560" cy="304560"/>
          </a:xfrm>
          <a:prstGeom prst="rect">
            <a:avLst/>
          </a:prstGeom>
          <a:ln w="0">
            <a:noFill/>
          </a:ln>
        </p:spPr>
      </p:pic>
      <p:pic>
        <p:nvPicPr>
          <p:cNvPr id="71" name="50 Cent - Candy Shop (Reggaeton Remix) New.mp3" descr=""/>
          <p:cNvPicPr/>
          <p:nvPr/>
        </p:nvPicPr>
        <p:blipFill>
          <a:blip r:embed="rId2"/>
          <a:stretch/>
        </p:blipFill>
        <p:spPr>
          <a:xfrm>
            <a:off x="4419720" y="3276720"/>
            <a:ext cx="304560" cy="304560"/>
          </a:xfrm>
          <a:prstGeom prst="rect">
            <a:avLst/>
          </a:prstGeom>
          <a:ln w="0">
            <a:noFill/>
          </a:ln>
        </p:spPr>
      </p:pic>
    </p:spTree>
  </p:cSld>
  <p:transition>
    <p:fade/>
  </p:transition>
  <p:timing>
    <p:tnLst>
      <p:par>
        <p:cTn id="7" dur="indefinite" restart="never" nodeType="tmRoot">
          <p:childTnLst>
            <p:seq>
              <p:cTn id="8" restart="whenNotActive" nodeType="interactiveSeq" fill="hold">
                <p:stCondLst>
                  <p:cond evt="onClick">
                    <p:tgtEl>
                      <p:spTgt spid="68"/>
                    </p:tgtEl>
                  </p:cond>
                </p:stCondLst>
                <p:childTnLst>
                  <p:par>
                    <p:cTn id="9" fill="hold">
                      <p:stCondLst>
                        <p:cond evt="onClick">
                          <p:tgtEl>
                            <p:spTgt spid="68"/>
                          </p:tgtEl>
                        </p:cond>
                      </p:stCondLst>
                      <p:childTnLst>
                        <p:par>
                          <p:cTn id="10" fill="hold">
                            <p:stCondLst>
                              <p:cond delay="0"/>
                            </p:stCondLst>
                            <p:childTnLst>
                              <p:par>
                                <p:cTn id="11" nodeType="clickEffect" fill="hold" presetClass="mediacall" presetID="1">
                                  <p:stCondLst>
                                    <p:cond delay="0"/>
                                  </p:stCondLst>
                                  <p:childTnLst>
                                    <p:cmd type="call" cmd="playFrom(300.0)">
                                      <p:cBhvr>
                                        <p:cTn id="12"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18900000"/>
        </a:gradFill>
      </p:bgPr>
    </p:bg>
    <p:spTree>
      <p:nvGrpSpPr>
        <p:cNvPr id="1" name=""/>
        <p:cNvGrpSpPr/>
        <p:nvPr/>
      </p:nvGrpSpPr>
      <p:grpSpPr>
        <a:xfrm>
          <a:off x="0" y="0"/>
          <a:ext cx="0" cy="0"/>
          <a:chOff x="0" y="0"/>
          <a:chExt cx="0" cy="0"/>
        </a:xfrm>
      </p:grpSpPr>
      <p:sp>
        <p:nvSpPr>
          <p:cNvPr id="72" name="Rectangle 4"/>
          <p:cNvSpPr/>
          <p:nvPr/>
        </p:nvSpPr>
        <p:spPr>
          <a:xfrm>
            <a:off x="324000" y="174600"/>
            <a:ext cx="860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1800" spc="-1" strike="noStrike">
                <a:solidFill>
                  <a:srgbClr val="000000"/>
                </a:solidFill>
                <a:latin typeface="Arial"/>
              </a:rPr>
              <a:t>Στον αντίποδα όμως της εταιρικής προπαγάνδας, είτε πρόκειται για μια τεράστια αλυσίδα τηλεπικοινωνιακών προϊόντων είτε για ένα κρεοπωλείο, ελλοχεύει το ορατό, το απρόβλεπτο, η ρήξη. Παρότι η πανταχού παρούσα ειδοποίηση περί του δημοφιλούς νόμου 2147 απαγορεύει την τοιχοκόλληση, η αφίσα παραμένει πάντα πρώτη στις προτιμήσεις όσων ομάδων ή ατόμων επιθυμούν να διασπείρουν το μήνυμά τους στο δημόσιο χώρο. Ως φορέας μιας διακοπής, ένα ασυνεχές δηλαδή που προβάλλει ανάμεσα στο αναμενόμενο, η αφίσα κατά κύριο λόγο αντιπαραθέτει λέξεις στις λέξεις, η εικόνα συνεπικουρεί, αλλά το σύνθημα βρίσκεται στο προσκήνιο. Στην περίπτωση πώλησης ενός προϊόντος -π.χ. προεκλογική αφίσα πολιτικού-, η εικόνα κυριαρχεί· στην εναλλακτική της ωστόσο εκδοχή, και πιο συνηθισμένη, το αναγνώσιμο υπερτερεί.</a:t>
            </a:r>
            <a:br>
              <a:rPr sz="1800"/>
            </a:br>
            <a:br>
              <a:rPr sz="1800"/>
            </a:br>
            <a:r>
              <a:rPr b="0" lang="el-GR" sz="1800" spc="-1" strike="noStrike">
                <a:solidFill>
                  <a:srgbClr val="000000"/>
                </a:solidFill>
                <a:latin typeface="Arial"/>
              </a:rPr>
              <a:t>Η καθαρή φόρμα και το άμεσο μήνυμα υπηρετούνται πιστά τόσο από την αγορά όσο και από τους πολεμίους της. Ο τοίχος, η κολόνα, η άσφαλτος καμιά φορά, ως επιφάνειες προς πώληση, οφείλουν να είναι επικερδείς, γι' αυτό και τονίζεται ο προπαγανδιστικός χαρακτήρας της αφισοκόλλησης. Η ιδιοτέλεια της αφίσας, υποχρεώνει τον παραγωγό της να ενεργεί υπό συνθήκες επείγουσας ανάγκης. Ο,τι ισχύει για την πολυεθνική, ισχύει και για τους ιδιώτες ή τις ομάδες που αφισοκολλούν, με τη διαφορά ότι οι τελευταίοι, εφόσον δεν πληρώνουν, δεν έχουν και δικαιώματα. Βεβαίως, η εν λόγω πρακτική δικαίως νομιμοποιείται, καθώς ο δημόσιος χώρος τείνει να καταστεί -αν αυτό δεν έχει ήδη συμβεί- ένα πεδίο όπου δικαιώματα έχουν αποκλειστικά όσοι εμπλέκονται στο εμπόριο. Όταν στους δρόμους περιφέρεται μόνο το φάντασμα της αγοράς, η πόλη έχει στοιχειώσει.</a:t>
            </a:r>
            <a:br>
              <a:rPr sz="1800"/>
            </a:b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Rectangle 4"/>
          <p:cNvSpPr/>
          <p:nvPr/>
        </p:nvSpPr>
        <p:spPr>
          <a:xfrm>
            <a:off x="395280" y="174600"/>
            <a:ext cx="8209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1800" spc="-1" strike="noStrike">
                <a:solidFill>
                  <a:srgbClr val="000000"/>
                </a:solidFill>
                <a:latin typeface="Arial"/>
              </a:rPr>
              <a:t>Για την τεχνική τού γκραφίτι τώρα, μολονότι έχουν γραφτεί ύμνοι και πολεμικές, ο χώρος της έχει περιοριστεί σε απόλυτα ελεγχόμενες περιοχές χωρίς κανείς να ενοχλείται, καθ' ότι αναγνωρίστηκε ως μια ακίνδυνη ιδεολογικά νεανική κουλτούρα. Από φεστιβάλ με την αιγίδα υπουργείων μέχρι τη διοργάνωση εκδηλώσεων από πολυεθνικές και καταστήματα, το γκραφίτι -στην Ελλάδα τουλάχιστον- κατάφερε μέσα σ' ένα πολύ σύντομο χρονικό διάστημα να περιχαρακωθεί στο πλαίσιο που του επέβαλε η εμπορευματοποίησή του και να μείνει στο επίπεδο της τεχνικής. Δεν κατόρθωσε δηλαδή, αντ' αυτού να προχωρήσει σε μια πραγματική ρήξη, έστω διακοσμητικής αξίας, στο συνεχές της εμπορικής κουλτούρας. Η τέχνη του δρόμου όμως, ή η τέχνη στο δρόμο καλύτερα, εμπλέκεται με την πολιτική· αυτό φαίνεται δεν αφορά καθόλου τους καλλιτέχνες του γκραφίτι. Απεναντίας αφορά κάποιους άλλους, οι οποίοι συνιστούν μια εν σπέρματι κοινότητα, άγνωστης ταυτότητας πάντα, που δραστηριοποιείται στο δημόσιο χώρο χρησιμοποιώντας επίσης το σπρέι.</a:t>
            </a:r>
            <a:br>
              <a:rPr sz="1800"/>
            </a:br>
            <a:br>
              <a:rPr sz="1800"/>
            </a:b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1800" spc="-1" strike="noStrike">
                <a:solidFill>
                  <a:srgbClr val="000000"/>
                </a:solidFill>
                <a:latin typeface="Arial"/>
              </a:rPr>
              <a:t> </a:t>
            </a:r>
            <a:r>
              <a:rPr b="0" lang="el-GR" sz="1800" spc="-1" strike="noStrike">
                <a:solidFill>
                  <a:srgbClr val="000000"/>
                </a:solidFill>
                <a:latin typeface="Arial"/>
              </a:rPr>
              <a:t>Δείγματα στένσιλ γκραφίτι έχουν κάνει εσχάτως την εμφάνισή τους σε διάφορα σημεία της Αθήνας, ακολουθώντας κατά πολλούς μια πολύ δημοφιλή σήμερα τάση σε μητροπολιτικά κέντρα όπως το Λονδίνο και η Νέα Υόρκη. Στην Κηφισίας, στο Βύρωνα, στην Κολοκοτρώνη, και βεβαίως στα Εξάρχεια, το εξασκημένο και μη μάτι ανακαλύπτει το αποτέλεσμα που απορρέει από τη χρήση ενός πατρόν κι ενός σπρέι. </a:t>
            </a:r>
            <a:br>
              <a:rPr sz="1800"/>
            </a:br>
            <a:br>
              <a:rPr sz="1800"/>
            </a:b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74" name="Rectangle 4"/>
          <p:cNvSpPr/>
          <p:nvPr/>
        </p:nvSpPr>
        <p:spPr>
          <a:xfrm>
            <a:off x="395280" y="404640"/>
            <a:ext cx="835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1800" spc="-1" strike="noStrike">
                <a:solidFill>
                  <a:srgbClr val="000000"/>
                </a:solidFill>
                <a:latin typeface="Arial"/>
              </a:rPr>
              <a:t>Το κρυπτικό μήνυμα ΗΙΤ, η ΖΩΝΗ ΕΛΕΓΧΟΜΕΝΗΣ ΚΑΘΗΜΕΡΙΝΟΤΗΤΑΣ έξω από ένα σχολείο, το ΣΕ ΒΛΕΠΟΥΝ και άλλα γραπτά μηνύματα, αντιπαρατίθενται ή βοηθούν τις εικόνες αστυνομικών, μηχανών λήψης και γιάπηδων.</a:t>
            </a:r>
            <a:br>
              <a:rPr sz="1800"/>
            </a:br>
            <a:br>
              <a:rPr sz="1800"/>
            </a:b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l-GR" sz="1800" spc="-1" strike="noStrike">
                <a:solidFill>
                  <a:srgbClr val="000000"/>
                </a:solidFill>
                <a:latin typeface="Arial"/>
              </a:rPr>
              <a:t> </a:t>
            </a:r>
            <a:r>
              <a:rPr b="0" lang="el-GR" sz="1800" spc="-1" strike="noStrike">
                <a:solidFill>
                  <a:srgbClr val="000000"/>
                </a:solidFill>
                <a:latin typeface="Arial"/>
              </a:rPr>
              <a:t>Η αντιεξουσιαστική κατεύθυνση είναι έκδηλη. Οπως και η φαντασία, το θάρρος, η διάθεση για ρήξη και για οικειοποίηση του δημόσιου χώρου. Εδώ οι ακτιβιστές δεν υπογράφουν, προτιμούν φαίνεται να αναδεικνύουν μόνο το μήνυμα. Αν ωστόσο προσφέρουν κάτι στην πόλη, είναι ρητά μια πιο καθαρή φόρμα εναντίωσης από τη γνωστή, πρωτόγονη γραφή στους τοίχους. Φυσικό επακόλουθο είναι βέβαια να δούμε τελευταία κι έντυπες διαφημίσεις με στένσιλ γκραφίτι, πιθανώς να έρθει κι η σειρά των τοίχων. Ως γνωστόν, οι διαφημιστές παρακολουθούν πολύ στενά τις τάσεις που κυριαρχούν στις τάξεις των αρνητών.</a:t>
            </a:r>
            <a:br>
              <a:rPr sz="1800"/>
            </a:b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r>
              <a:rPr b="0" lang="el-GR" sz="1800" spc="-1" strike="noStrike">
                <a:solidFill>
                  <a:srgbClr val="000000"/>
                </a:solidFill>
                <a:latin typeface="Arial"/>
              </a:rPr>
              <a:t>ΜΑΝΩΛΗΣ ΑΝΔΡΙΩΤΑΚΗΣ mandri@enet.gr</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1800"/>
            </a:br>
            <a:br>
              <a:rPr sz="1800"/>
            </a:b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l-GR" sz="1800" spc="-1" strike="noStrike">
                <a:solidFill>
                  <a:srgbClr val="000000"/>
                </a:solidFill>
                <a:latin typeface="Arial"/>
              </a:rPr>
              <a:t>ΕΛΕΥΘΕΡΟΤΥΠΙΑ - 04/06/2003</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5" descr="Hip_Hop_Graffiti"/>
          <p:cNvPicPr/>
          <p:nvPr/>
        </p:nvPicPr>
        <p:blipFill>
          <a:blip r:embed="rId1"/>
          <a:stretch/>
        </p:blipFill>
        <p:spPr>
          <a:xfrm>
            <a:off x="0" y="0"/>
            <a:ext cx="9144000" cy="68580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Interviews</a:t>
            </a:r>
            <a:endParaRPr b="0" lang="en-US" sz="4400" spc="-1" strike="noStrike">
              <a:solidFill>
                <a:srgbClr val="000000"/>
              </a:solidFill>
              <a:latin typeface="Arial"/>
            </a:endParaRPr>
          </a:p>
        </p:txBody>
      </p:sp>
      <p:sp>
        <p:nvSpPr>
          <p:cNvPr id="77" name="PlaceHolder 2"/>
          <p:cNvSpPr>
            <a:spLocks noGrp="1"/>
          </p:cNvSpPr>
          <p:nvPr>
            <p:ph/>
          </p:nvPr>
        </p:nvSpPr>
        <p:spPr>
          <a:xfrm>
            <a:off x="468000" y="1628640"/>
            <a:ext cx="8226360" cy="452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9900"/>
                </a:solidFill>
                <a:latin typeface="Arial"/>
              </a:rPr>
              <a:t>Πήραμε συνέντευξη από έναν έφηβο που ασχολείται με </a:t>
            </a:r>
            <a:r>
              <a:rPr b="1" lang="en-US" sz="2800" spc="-1" strike="noStrike">
                <a:solidFill>
                  <a:srgbClr val="ff9900"/>
                </a:solidFill>
                <a:latin typeface="Arial"/>
              </a:rPr>
              <a:t>graffiti </a:t>
            </a:r>
            <a:r>
              <a:rPr b="1" lang="el-GR" sz="2800" spc="-1" strike="noStrike">
                <a:solidFill>
                  <a:srgbClr val="ff9900"/>
                </a:solidFill>
                <a:latin typeface="Arial"/>
              </a:rPr>
              <a:t>ενώ εντοπίσαμε κ μια άλλη ενδιαφέρουσα συνέντευξη ενός γκραφιτά στο </a:t>
            </a:r>
            <a:r>
              <a:rPr b="1" lang="en-US" sz="2800" spc="-1" strike="noStrike">
                <a:solidFill>
                  <a:srgbClr val="ff9900"/>
                </a:solidFill>
                <a:latin typeface="Arial"/>
              </a:rPr>
              <a:t>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9900"/>
                </a:solidFill>
                <a:latin typeface="Arial"/>
              </a:rPr>
              <a:t>Παρακάτω σας καταθέτουμε τις απαντήσεις τους σε διάφορα ερωτήματα .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00"/>
            </a:gs>
          </a:gsLst>
          <a:lin ang="27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1</a:t>
            </a:r>
            <a:r>
              <a:rPr b="1" i="1" lang="el-GR" sz="4400" spc="-1" strike="noStrike" u="sng" baseline="30000">
                <a:solidFill>
                  <a:srgbClr val="000000"/>
                </a:solidFill>
                <a:uFillTx/>
                <a:latin typeface="Arial"/>
              </a:rPr>
              <a:t>η</a:t>
            </a:r>
            <a:r>
              <a:rPr b="1" i="1" lang="el-GR" sz="4400" spc="-1" strike="noStrike" u="sng">
                <a:solidFill>
                  <a:srgbClr val="000000"/>
                </a:solidFill>
                <a:uFillTx/>
                <a:latin typeface="Arial"/>
              </a:rPr>
              <a:t> συνέντευξη</a:t>
            </a:r>
            <a:r>
              <a:rPr b="1" i="1" lang="en-US" sz="4400" spc="-1" strike="noStrike" u="sng">
                <a:solidFill>
                  <a:srgbClr val="000000"/>
                </a:solidFill>
                <a:uFillTx/>
                <a:latin typeface="Arial"/>
              </a:rPr>
              <a: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000000"/>
                </a:solidFill>
                <a:latin typeface="Arial"/>
              </a:rPr>
              <a:t>Πόσο διάστημα ασχολείσαι με το </a:t>
            </a:r>
            <a:r>
              <a:rPr b="1" i="1" lang="en-US" sz="1600" spc="-1" strike="noStrike">
                <a:solidFill>
                  <a:srgbClr val="000000"/>
                </a:solidFill>
                <a:latin typeface="Arial"/>
              </a:rPr>
              <a:t>graffiti?</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αρχές του 2005..</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Από ποια ηλικία ξεκίνησες?</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από 14,5 χρονών..</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Τι σε οδήγησε στο να ασχοληθείς μ’αυτό?</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μου άρεσε, το έβλεπα, δεν είχα ιδέα αρχικά..</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Επηρεάστηκες από κάτι?</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όχι..</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Ποιες τεχνικές χρησιμοποιείς?</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την αρχή για να κάνω ένα σχέδιο σκέφτομαι, αφοσιώνομαι στο χαρτί 3-4 ώρες και αν μου αρέσει το κάνω στον τοίχο..</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Πως το αντιμετωπίζουν αυτό οι γνωστοί σου?</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με λίγα λόγια.. ΤΕΧΝΗ..</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6" descr="invisible-graffiti%202"/>
          <p:cNvPicPr/>
          <p:nvPr/>
        </p:nvPicPr>
        <p:blipFill>
          <a:blip r:embed="rId1"/>
          <a:stretch/>
        </p:blipFill>
        <p:spPr>
          <a:xfrm>
            <a:off x="0" y="0"/>
            <a:ext cx="9144000" cy="68580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ff"/>
            </a:gs>
          </a:gsLst>
          <a:lin ang="189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50920" y="189000"/>
            <a:ext cx="8604000" cy="6524640"/>
          </a:xfrm>
          <a:prstGeom prst="rect">
            <a:avLst/>
          </a:prstGeom>
          <a:noFill/>
          <a:ln w="0">
            <a:noFill/>
          </a:ln>
        </p:spPr>
        <p:txBody>
          <a:bodyPr anchor="t">
            <a:normAutofit/>
          </a:bodyPr>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Ποια η γνώμη της οικογένειάς σο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θέλουν πολύ να το συνεχίσω αυτό, γιατί το βλέπουν σαν τέχνη..</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i="1" lang="el-GR" sz="1800" spc="-1" strike="noStrike">
                <a:solidFill>
                  <a:srgbClr val="000000"/>
                </a:solidFill>
                <a:latin typeface="Arial"/>
              </a:rPr>
              <a:t>Τι κριτικές έχεις ακούσει?</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παλιά άκουγα άσχημα σχόλια, ενώ τώρα μέτρια.. Και πιστεύω είναι καλό να ακούς αρνητικά σχόλια για να έχεις ένα πείσμα και να το παλέψεις περισσότερο..</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i="1" lang="el-GR" sz="1800" spc="-1" strike="noStrike">
                <a:solidFill>
                  <a:srgbClr val="000000"/>
                </a:solidFill>
                <a:latin typeface="Arial"/>
              </a:rPr>
              <a:t>Πόσο δαπανηρό μπορεί να είναι αυτό το </a:t>
            </a:r>
            <a:r>
              <a:rPr b="1" i="1" lang="en-US" sz="1800" spc="-1" strike="noStrike">
                <a:solidFill>
                  <a:srgbClr val="000000"/>
                </a:solidFill>
                <a:latin typeface="Arial"/>
              </a:rPr>
              <a:t>hobby</a:t>
            </a:r>
            <a:r>
              <a:rPr b="1" i="1" lang="el-GR"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ρκετά ακριβό.. Από 50</a:t>
            </a:r>
            <a:r>
              <a:rPr b="0" lang="el-GR" sz="1800" spc="-1" strike="noStrike">
                <a:solidFill>
                  <a:srgbClr val="000000"/>
                </a:solidFill>
                <a:latin typeface="Arial"/>
                <a:ea typeface="Arial"/>
              </a:rPr>
              <a:t>€ και πάνω, αλλά είναι και αναλόγως το τι θέλεις να κάνεις..</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1" i="1" lang="el-GR" sz="1800" spc="-1" strike="noStrike">
                <a:solidFill>
                  <a:srgbClr val="000000"/>
                </a:solidFill>
                <a:latin typeface="Arial"/>
                <a:ea typeface="Arial"/>
              </a:rPr>
              <a:t>Ποιες είναι οι πηγές για τις γνώσεις σο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βλέποντας απλά..</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1" i="1" lang="el-GR" sz="1800" spc="-1" strike="noStrike">
                <a:solidFill>
                  <a:srgbClr val="000000"/>
                </a:solidFill>
                <a:latin typeface="Arial"/>
                <a:ea typeface="Arial"/>
              </a:rPr>
              <a:t>Από ποιους διδάχτηκες την τέχνη του </a:t>
            </a:r>
            <a:r>
              <a:rPr b="1" i="1" lang="en-US" sz="1800" spc="-1" strike="noStrike">
                <a:solidFill>
                  <a:srgbClr val="000000"/>
                </a:solidFill>
                <a:latin typeface="Arial"/>
                <a:ea typeface="Arial"/>
              </a:rPr>
              <a:t>graffiti</a:t>
            </a:r>
            <a:r>
              <a:rPr b="1" i="1" lang="el-GR"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από ένα φίλο..</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1" i="1" lang="el-GR" sz="1800" spc="-1" strike="noStrike">
                <a:solidFill>
                  <a:srgbClr val="000000"/>
                </a:solidFill>
                <a:latin typeface="Arial"/>
                <a:ea typeface="Arial"/>
              </a:rPr>
              <a:t>Γιατί χρησιμοποιείτε συνήθως </a:t>
            </a:r>
            <a:r>
              <a:rPr b="1" i="1" lang="en-US" sz="1800" spc="-1" strike="noStrike">
                <a:solidFill>
                  <a:srgbClr val="000000"/>
                </a:solidFill>
                <a:latin typeface="Arial"/>
                <a:ea typeface="Arial"/>
              </a:rPr>
              <a:t>code-names</a:t>
            </a:r>
            <a:r>
              <a:rPr b="1" i="1" lang="el-GR" sz="1800" spc="-1" strike="noStrike">
                <a:solidFill>
                  <a:srgbClr val="000000"/>
                </a:solidFill>
                <a:latin typeface="Arial"/>
                <a:ea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για να κρατάμε κρυφή την ταυτότητά μας, για να κάνουμε τους βανδαλισμούς μας και να επικοινωνεί ο ένας </a:t>
            </a:r>
            <a:r>
              <a:rPr b="0" lang="en-US" sz="1800" spc="-1" strike="noStrike">
                <a:solidFill>
                  <a:srgbClr val="000000"/>
                </a:solidFill>
                <a:latin typeface="Arial"/>
                <a:ea typeface="Arial"/>
              </a:rPr>
              <a:t>writer </a:t>
            </a:r>
            <a:r>
              <a:rPr b="0" lang="el-GR" sz="1800" spc="-1" strike="noStrike">
                <a:solidFill>
                  <a:srgbClr val="000000"/>
                </a:solidFill>
                <a:latin typeface="Arial"/>
                <a:ea typeface="Arial"/>
              </a:rPr>
              <a:t>με τον άλλον..</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1" i="1" lang="el-GR" sz="1800" spc="-1" strike="noStrike">
                <a:solidFill>
                  <a:srgbClr val="000000"/>
                </a:solidFill>
                <a:latin typeface="Arial"/>
                <a:ea typeface="Arial"/>
              </a:rPr>
              <a:t>Προσφέρει και το </a:t>
            </a:r>
            <a:r>
              <a:rPr b="1" i="1" lang="en-US" sz="1800" spc="-1" strike="noStrike">
                <a:solidFill>
                  <a:srgbClr val="000000"/>
                </a:solidFill>
                <a:latin typeface="Arial"/>
                <a:ea typeface="Arial"/>
              </a:rPr>
              <a:t>internet </a:t>
            </a:r>
            <a:r>
              <a:rPr b="1" i="1" lang="el-GR" sz="1800" spc="-1" strike="noStrike">
                <a:solidFill>
                  <a:srgbClr val="000000"/>
                </a:solidFill>
                <a:latin typeface="Arial"/>
                <a:ea typeface="Arial"/>
              </a:rPr>
              <a:t>βοήθεια?</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ναι, μπορείς να επισκεφτείς </a:t>
            </a:r>
            <a:r>
              <a:rPr b="0" lang="en-US" sz="1800" spc="-1" strike="noStrike">
                <a:solidFill>
                  <a:srgbClr val="000000"/>
                </a:solidFill>
                <a:latin typeface="Arial"/>
                <a:ea typeface="Arial"/>
              </a:rPr>
              <a:t>sites </a:t>
            </a:r>
            <a:r>
              <a:rPr b="0" lang="el-GR" sz="1800" spc="-1" strike="noStrike">
                <a:solidFill>
                  <a:srgbClr val="000000"/>
                </a:solidFill>
                <a:latin typeface="Arial"/>
                <a:ea typeface="Arial"/>
              </a:rPr>
              <a:t>για να πάρεις ιδέες και κυρίως να δεις τη δουλειά που κάνει ο άλλος..</a:t>
            </a:r>
            <a:endParaRPr b="0" lang="en-US" sz="1800" spc="-1" strike="noStrike">
              <a:solidFill>
                <a:srgbClr val="000000"/>
              </a:solidFill>
              <a:latin typeface="Arial"/>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1" i="1" lang="el-GR" sz="1800" spc="-1" strike="noStrike">
                <a:solidFill>
                  <a:srgbClr val="000000"/>
                </a:solidFill>
                <a:latin typeface="Arial"/>
                <a:ea typeface="Arial"/>
              </a:rPr>
              <a:t>Έχεις κάποιο πρότυπο? </a:t>
            </a: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 </a:t>
            </a:r>
            <a:r>
              <a:rPr b="0" lang="el-GR" sz="1800" spc="-1" strike="noStrike">
                <a:solidFill>
                  <a:srgbClr val="000000"/>
                </a:solidFill>
                <a:latin typeface="Arial"/>
                <a:ea typeface="Arial"/>
              </a:rPr>
              <a:t>ναι έχω..</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27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404640"/>
            <a:ext cx="9001080" cy="69120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000000"/>
                </a:solidFill>
                <a:latin typeface="Arial"/>
              </a:rPr>
              <a:t>Πόσο δύσκολο ήταν στην αρχή?</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πολύ δύσκολο, αλλά είναι μέχρι να συνηθίσεις να κρατάς το σπρέι..</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Ποια είναι τα αγαπημένα σου </a:t>
            </a:r>
            <a:r>
              <a:rPr b="1" i="1" lang="en-US" sz="1600" spc="-1" strike="noStrike">
                <a:solidFill>
                  <a:srgbClr val="000000"/>
                </a:solidFill>
                <a:latin typeface="Arial"/>
              </a:rPr>
              <a:t>cans</a:t>
            </a:r>
            <a:r>
              <a:rPr b="1" i="1" lang="el-GR"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US" sz="1600" spc="-1" strike="noStrike">
                <a:solidFill>
                  <a:srgbClr val="000000"/>
                </a:solidFill>
                <a:latin typeface="Arial"/>
              </a:rPr>
              <a:t>belton, mt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Arial"/>
              </a:rPr>
              <a:t>M</a:t>
            </a:r>
            <a:r>
              <a:rPr b="1" i="1" lang="el-GR" sz="1600" spc="-1" strike="noStrike">
                <a:solidFill>
                  <a:srgbClr val="000000"/>
                </a:solidFill>
                <a:latin typeface="Arial"/>
              </a:rPr>
              <a:t>πορεί το </a:t>
            </a:r>
            <a:r>
              <a:rPr b="1" i="1" lang="en-US" sz="1600" spc="-1" strike="noStrike">
                <a:solidFill>
                  <a:srgbClr val="000000"/>
                </a:solidFill>
                <a:latin typeface="Arial"/>
              </a:rPr>
              <a:t>graffiti </a:t>
            </a:r>
            <a:r>
              <a:rPr b="1" i="1" lang="el-GR" sz="1600" spc="-1" strike="noStrike">
                <a:solidFill>
                  <a:srgbClr val="000000"/>
                </a:solidFill>
                <a:latin typeface="Arial"/>
              </a:rPr>
              <a:t>να γίνει επάγγελμα?</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τη Γερμανία ήδη γίνεται και σε 10 χρόνια περίπου λένε ότι θα έρθει και στην Ελλάδα..</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Ποια η γνώμη σου για το </a:t>
            </a:r>
            <a:r>
              <a:rPr b="1" i="1" lang="en-US" sz="1600" spc="-1" strike="noStrike">
                <a:solidFill>
                  <a:srgbClr val="000000"/>
                </a:solidFill>
                <a:latin typeface="Arial"/>
              </a:rPr>
              <a:t>street ar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πιστεύω ότι δίνει χρώμα στην πόλη..</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Τι σημαίνει </a:t>
            </a:r>
            <a:r>
              <a:rPr b="1" i="1" lang="en-US" sz="1600" spc="-1" strike="noStrike">
                <a:solidFill>
                  <a:srgbClr val="000000"/>
                </a:solidFill>
                <a:latin typeface="Arial"/>
              </a:rPr>
              <a:t>style </a:t>
            </a:r>
            <a:r>
              <a:rPr b="1" i="1" lang="el-GR" sz="1600" spc="-1" strike="noStrike">
                <a:solidFill>
                  <a:srgbClr val="000000"/>
                </a:solidFill>
                <a:latin typeface="Arial"/>
              </a:rPr>
              <a:t>για σένα?</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ο καθένας το κάνει με το δικό του τρόπο.. (</a:t>
            </a:r>
            <a:r>
              <a:rPr b="0" lang="en-US" sz="1600" spc="-1" strike="noStrike">
                <a:solidFill>
                  <a:srgbClr val="000000"/>
                </a:solidFill>
                <a:latin typeface="Arial"/>
              </a:rPr>
              <a:t>wild style, bubble style, </a:t>
            </a:r>
            <a:r>
              <a:rPr b="0" lang="el-GR" sz="1600" spc="-1" strike="noStrike">
                <a:solidFill>
                  <a:srgbClr val="000000"/>
                </a:solidFill>
                <a:latin typeface="Arial"/>
              </a:rPr>
              <a:t>κ.ά.)</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Έχεις αντιμετωπίσει ποτέ πρόβλημα με τις αρχέ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ναι, πέρυσι με ένα φίλο είχαμε ένα μπλέξιμο με την αστυνομία..</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000000"/>
                </a:solidFill>
                <a:latin typeface="Arial"/>
              </a:rPr>
              <a:t>     </a:t>
            </a:r>
            <a:r>
              <a:rPr b="1" i="1" lang="el-GR" sz="1600" spc="-1" strike="noStrike">
                <a:solidFill>
                  <a:srgbClr val="000000"/>
                </a:solidFill>
                <a:latin typeface="Arial"/>
              </a:rPr>
              <a:t>Θα ήθελες να σου προσφέρει ο δήμος της περιοχής σου επιφάνειες για </a:t>
            </a:r>
            <a:r>
              <a:rPr b="1" i="1" lang="en-US" sz="1600" spc="-1" strike="noStrike">
                <a:solidFill>
                  <a:srgbClr val="000000"/>
                </a:solidFill>
                <a:latin typeface="Arial"/>
              </a:rPr>
              <a:t>graffiti</a:t>
            </a:r>
            <a:r>
              <a:rPr b="1" i="1" lang="el-GR" sz="1600" spc="-1" strike="noStrike">
                <a:solidFill>
                  <a:srgbClr val="000000"/>
                </a:solidFill>
                <a:latin typeface="Arial"/>
              </a:rPr>
              <a:t>?</a:t>
            </a: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έχουμε ήδη, αλλά θα θέλαμε κι άλλες..</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Δημιουργούνται αντιπαραθέσεις μεταξύ σα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την πόλη μας γενικά όχι, αλλά σε μεγάλες πόλεις πολύ συχνά..</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i="1" lang="el-GR" sz="1600" spc="-1" strike="noStrike">
                <a:solidFill>
                  <a:srgbClr val="000000"/>
                </a:solidFill>
                <a:latin typeface="Arial"/>
              </a:rPr>
              <a:t>Συνεργάζεστε μεταξύ σας?</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ναι, πολλές φορές πηγαίνουμε σε σπίτια φίλων για να σκεφτούμε τι θα κάνουμ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NOK</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graffiti-portugal+024"/>
          <p:cNvPicPr/>
          <p:nvPr/>
        </p:nvPicPr>
        <p:blipFill>
          <a:blip r:embed="rId1"/>
          <a:stretch/>
        </p:blipFill>
        <p:spPr>
          <a:xfrm>
            <a:off x="0" y="0"/>
            <a:ext cx="914400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2</a:t>
            </a:r>
            <a:r>
              <a:rPr b="1" i="1" lang="el-GR" sz="4400" spc="-1" strike="noStrike" u="sng" baseline="30000">
                <a:solidFill>
                  <a:srgbClr val="000000"/>
                </a:solidFill>
                <a:uFillTx/>
                <a:latin typeface="Arial"/>
              </a:rPr>
              <a:t>η</a:t>
            </a:r>
            <a:r>
              <a:rPr b="1" i="1" lang="el-GR" sz="4400" spc="-1" strike="noStrike" u="sng">
                <a:solidFill>
                  <a:srgbClr val="000000"/>
                </a:solidFill>
                <a:uFillTx/>
                <a:latin typeface="Arial"/>
              </a:rPr>
              <a:t> συνέντευξη</a:t>
            </a:r>
            <a:r>
              <a:rPr b="1" i="1" lang="en-US" sz="4400" spc="-1" strike="noStrike" u="sng">
                <a:solidFill>
                  <a:srgbClr val="000000"/>
                </a:solidFill>
                <a:uFillTx/>
                <a:latin typeface="Arial"/>
              </a:rPr>
              <a:t>:</a:t>
            </a:r>
            <a:endParaRPr b="0" lang="en-US" sz="4400" spc="-1" strike="noStrike">
              <a:solidFill>
                <a:srgbClr val="000000"/>
              </a:solidFill>
              <a:latin typeface="Arial"/>
            </a:endParaRPr>
          </a:p>
        </p:txBody>
      </p:sp>
      <p:sp>
        <p:nvSpPr>
          <p:cNvPr id="84" name="PlaceHolder 2"/>
          <p:cNvSpPr>
            <a:spLocks noGrp="1"/>
          </p:cNvSpPr>
          <p:nvPr>
            <p:ph/>
          </p:nvPr>
        </p:nvSpPr>
        <p:spPr>
          <a:xfrm>
            <a:off x="324000" y="1052640"/>
            <a:ext cx="8353440" cy="496728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Black"/>
              </a:rPr>
              <a:t>Πώς ξεκίνησες το graffiti;</a:t>
            </a:r>
            <a:endParaRPr b="0" lang="en-US" sz="18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ο καλοκαίρι του 1988 και ενώ ήμουν στην Αγγλία οικογενειακώς είδα για πρώτη φορά graffiti στις γραμμές του τρένου κοντά στο Royal Oak του Λονδίνου. Δεν είχα ιδέα του τι έβλεπα αλλά ήταν ουσιαστικά η πρώτη μου επαφή με την τάση αυτή? Αρκετά αργότερα, το 1990 έκανα τα πρώτα μου υποτυπώδη sketches ως πιτσιρικάς που ασχολούνταν με skateboarding κλπ. Εκείνη τη χρονιά ένας old school skater της Θεσσαλονίκης, o Homo (hey Alex!) είχε γεμίσει το γήπεδο της γειτονιάς μου με logos από punk groups κλπ. Ήταν πολύ cool! To 1991 γνώρισα τον Jason και το καλοκαίρι της ίδιας χρονιάς μας χτύπησε ο ίδιος κεραυνός? η προβολή του StyleWars στην TV. Θυμάμαι ότι την επόμενη μέρα δεν βρίσκαμε τα λόγια να το περιγράψουμε? Ήμασταν μουδιασμένοι?Σαν να κάναμε ένα γιγαντιαίο βήμα από την εποχή των σπηλαίων στο σήμερα μέσα σε μια νύχτα! Μέχρι τότε δεν είχαμε ιδέα από styles, βέλη κλπ. Ξαφνικά είχαμε ένα πλαίσιο αναφοράς?κάτι να μας καθοδηγήσει. Για δύο χρόνια βοηθούσα τον Jason στα κομμάτια του?αλλά μέχρι τις 00:00 γιατί με κυνηγούσαν από το σπίτι αν αργούσα. Εν τω μεταξύ σχεδόν κάθε βράδυ ξενυχτούσα κάνοντας αμέτρητα sketches. Το 1994 έκανα το πρώτο μου solo κομμάτι?Έγραφε ?sonie?. Ήμουν 16. The rest is histor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Black"/>
              </a:rPr>
              <a:t>Πόσο δύσκολο ήταν στην αρχή;</a:t>
            </a:r>
            <a:endParaRPr b="0" lang="en-US" sz="18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Ήταν διαφορετικά από ότι για κάποιον που επιλέγει να ασχολήθει σήμερα. Σαν να ανακάλυπτες την πυρίτιδα. Δοκίμαζες caps από αποσμητικά για να βρεις ποιο θα σου έδινε πιο ομοιόμορφη γραμμή και άλλα τέτοια. Πάντως ήταν περισσότερο underground, πιο pure και σαφώς πιο ρομαντικά.</a:t>
            </a:r>
            <a:endParaRPr b="0"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33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58560" y="378000"/>
            <a:ext cx="8785080" cy="6480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spray cans όπως όλοι ξέρουμε κοστίζουν αρκετά. Οικονομικά πώς τα έβγαζες πέρ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Simple! Έχεις ακουστά την εξίσωση 1frappe = 1.5 minos ca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χεις κάποια ιδιαίτερη τακτική όταν βάφει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σύ έχεις κάποια ιδιαίτερη τακτική όταν περπατά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οια είναι τα αγαπημένα σου ca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Belt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ολλοί writers κατηγορούν τους φτασμένους artists όταν κάνουν έργα με πληρωμή. Ποια είναι η δική σου γνώμ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ροτιμώ τη λέξη writer? Από εκεί και έπειτα ο καθένας χαράζει τον δρόμο του? Εγώ ποτέ δεν το είδα ως επάγγελμα. Είναι κάτι πολύ προσωπικό για μένα και δεν με ενδιαφέρει η γνώμη παρά ορισμένων ανθρώπων που έχουν κοινή αντίληψη με εμένα επάνω στο θέμα? Συνεπώς δε με απασχολεί να βρω σπόνσορα.</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πορεί το graff να γίνει επάγγελμ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Νομίζω πως έχει ήδη γίνει επάγγελμα και πολύ κερδοφόρο μάλιστα? Κρίμα πάντως που υπάρχουν άνθρωποι άσχετοι με αυτό, οι οποίοι πλουτίζουν εις βάρος των πραγματικών δημιουργών του. Παράσιτα υπάρχουν παντού!</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ενικά βλέπεις το graffiti σαν τέχνη;</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ν πούμε ότι ισχύει κάτι τέτοιο τότε για μενα είναι περισσότερο κοντά στην ποίηση ή τον χορό παρά στην ζωγραφική?poetry in mo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άρχουν περιθώρια εξέλιξής του στην Ελλάδ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άντοτε υπάρχουν περιθώρια? Αυτό σε κάνει να συνεχίζεις!</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οιο event θα σου μείνει αξέχαστο;</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ο jam στην Καλαμαριά το 1995? Ήταν massive ακόμη και για σημερινά δεδομένα. Συν τοις άλλοις η πρώτη ουσιαστική συνάντηση των Ελλήνων writers και η απαρχή γνωριμιών που εξελίχθηκαν σε καλές φιλίες για μένα.</a:t>
            </a:r>
            <a:endParaRPr b="0" lang="en-US" sz="16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99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0" y="189000"/>
            <a:ext cx="9144000" cy="648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 γυρνούσες στο παρελθόν, τι θα άλλαζες στην πορεία σου ως graffiti writ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Θα έκανα περισσότερα κομμάτια όταν ήμουν νεότερος και είχα λιγότερες υποχρεώσεις. Θα εκμεταλλευόμουν περισσότερο, σε ότι αφορά το graff, τις φορές που βρέθηκα εκτός συνόρω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ι σημαίνει style για σένα;</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ίναι η μόνιμη αναζήτηση της τέλειας φόρμας των γραμμάτων? Είναι η ενέργεια που απελευθερώνουν τα γράμματα μιας λέξης λόγω της μεταξύ τους αλληλεπίδρασης. Είναι η δυναμική του ότι για κάθε γραμμή που χαράζεις υπάρχουν άπειροι διαφορετικοί τρόποι που θα μπορούσες να το είχες κάνει. Δεν είναι χρώματα, δεν είναι καμουφλάζ, δεν είναι backgrounds και characters? Είναι αυτό που δεν θα χάσει την ενέργεια του ακόμη και αν το αφήσεις μια μόνο γραμμή? μια μονοκονδυλιά?let?s see what you got when it?s only about silver and bl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οιο είναι το αγαπημένο σου sty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Berlin the dream! Phos4, Poet, DeJoe, Flash, Zasd, Nick, Kool-Q, Suke, Jack, Des7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σχολήθηκες ποτέ με άλλα στοιχεία του hip-ho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Όχι? Απλά μου αρέσουν τα παλιά κυρίως hip-hop κομμάτια?έχω και καμιά 150αριά βινύλια. Πάντως, όπως σου είπα και προηγουμένως βλέπω πολλά κοινά μεταξύ χορού και writing? all you b-boys know what I mean!</a:t>
            </a:r>
            <a:endParaRPr b="0" lang="en-US" sz="2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ff99"/>
            </a:gs>
          </a:gsLst>
          <a:lin ang="5400000"/>
        </a:gradFill>
      </p:bgPr>
    </p:bg>
    <p:spTree>
      <p:nvGrpSpPr>
        <p:cNvPr id="1" name=""/>
        <p:cNvGrpSpPr/>
        <p:nvPr/>
      </p:nvGrpSpPr>
      <p:grpSpPr>
        <a:xfrm>
          <a:off x="0" y="0"/>
          <a:ext cx="0" cy="0"/>
          <a:chOff x="0" y="0"/>
          <a:chExt cx="0" cy="0"/>
        </a:xfrm>
      </p:grpSpPr>
      <p:sp>
        <p:nvSpPr>
          <p:cNvPr id="87" name="Rectangle 4"/>
          <p:cNvSpPr/>
          <p:nvPr/>
        </p:nvSpPr>
        <p:spPr>
          <a:xfrm>
            <a:off x="250920" y="333360"/>
            <a:ext cx="8497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ρκετοί θέλουν να αποδεσμεύσουν εντελώς το graffiti από το hip-hop. Είναι λογικό κάτι τέτοιο τη στιγμή που θεωρείται ένα από τα 4 βασικά συστατικά του;</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υτό είναι λίγο tricky? Κατά τη γνώμη μου το graffiti έχει ένα πόδι μέσα και στο hip-hop? Παρόλα αυτά όμως είναι περισσότερο ευέλικτο και universal από ότι είναι το hip-hop? από εκεί και πέρα πιστεύω ότι οποιοσδήποτε τέτοιος παραλληλισμός περιορίζει τη δυναμική του και διαστρεβλώνει την αλήθεια. Sorry guys, ελπίζω να μην σας απογοήτευσα, αλλά έτσι έχουν τα πράγματα!</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οια η γνώμη σου για τη street 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Καταρχήν κατά ένα μεγάλο ποσοστό δεν είναι writing? από την άλλη όμως την χαρακτηρίζουν τα ίδια κίνητρα με το graffiti? Μπορεί να ξεπήδησε από αυτό αλλά δεν δέχομαι ότι είναι εξέλιξή του. Παρόλα αυτά θεωρώ ότι συνυπάρχει πολύ αρμονικά με αυτό και είναι συνυφασμένη με το σύγχρονο αστικό τοπίο όπως ακριβώς και το graff? και προσωπικά μου αρέσουν πολύ οι δουλειές πολλών street artists όπως των Cbs, Flying Fortress, The London Police, και των δικών μας Hi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ες μας ένα όνειρο που πραγματοποίησες και ένα όνειρο που θέλεις κάποτε να πραγματοποιήσει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Έχω γνωρίσει και γράψει με πολλούς Έλληνες και ξένους accomplished writers και έχω κάνει ουσιαστικές φιλίες μέσα από αυτό το hobby μου. Θα ήθελα να γράψω στο Βερολίνο με κάποιους writers που στοιχειώνουν τα όνειρα μου εδώ και χρόνια? Βλέπε παραπάνω.</a:t>
            </a:r>
            <a:endParaRPr b="0" lang="en-US" sz="18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5" descr="IMGP0479(400)"/>
          <p:cNvPicPr/>
          <p:nvPr/>
        </p:nvPicPr>
        <p:blipFill>
          <a:blip r:embed="rId1"/>
          <a:stretch/>
        </p:blipFill>
        <p:spPr>
          <a:xfrm>
            <a:off x="0" y="0"/>
            <a:ext cx="9144000" cy="685800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bbe0e3"/>
            </a:gs>
          </a:gsLst>
          <a:lin ang="27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Cans. . .</a:t>
            </a:r>
            <a:endParaRPr b="0" lang="en-US" sz="4400" spc="-1" strike="noStrike">
              <a:solidFill>
                <a:srgbClr val="000000"/>
              </a:solidFill>
              <a:latin typeface="Arial"/>
            </a:endParaRPr>
          </a:p>
        </p:txBody>
      </p:sp>
      <p:sp>
        <p:nvSpPr>
          <p:cNvPr id="90" name="PlaceHolder 2"/>
          <p:cNvSpPr>
            <a:spLocks noGrp="1"/>
          </p:cNvSpPr>
          <p:nvPr>
            <p:ph/>
          </p:nvPr>
        </p:nvSpPr>
        <p:spPr>
          <a:xfrm>
            <a:off x="456840" y="1599840"/>
            <a:ext cx="843588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Καλύτερα Ca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πριν 8 μήνες</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Belton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33%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Montana Gold </a:t>
            </a:r>
            <a:r>
              <a:rPr b="1" i="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29%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Arial"/>
              </a:rPr>
              <a:t>Montana Black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24%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Arial"/>
              </a:rPr>
              <a:t>Sabotage </a:t>
            </a:r>
            <a:r>
              <a:rPr b="0" i="1" lang="en-US" sz="2800" spc="-1" strike="noStrike">
                <a:solidFill>
                  <a:srgbClr val="000000"/>
                </a:solidFill>
                <a:latin typeface="Arial"/>
              </a:rPr>
              <a:t> </a:t>
            </a:r>
            <a:br>
              <a:rPr sz="2800"/>
            </a:br>
            <a:r>
              <a:rPr b="0" i="1" lang="en-US" sz="2800" spc="-1" strike="noStrike">
                <a:solidFill>
                  <a:srgbClr val="000000"/>
                </a:solidFill>
                <a:latin typeface="Arial"/>
              </a:rPr>
              <a:t>-</a:t>
            </a:r>
            <a:r>
              <a:rPr b="1" i="1" lang="en-US" sz="2800" spc="-1" strike="noStrike">
                <a:solidFill>
                  <a:srgbClr val="000000"/>
                </a:solidFill>
                <a:latin typeface="Arial"/>
              </a:rPr>
              <a:t>14%</a:t>
            </a:r>
            <a:endParaRPr b="0" lang="en-US" sz="2800" spc="-1" strike="noStrike">
              <a:solidFill>
                <a:srgbClr val="000000"/>
              </a:solidFill>
              <a:latin typeface="Arial"/>
            </a:endParaRPr>
          </a:p>
        </p:txBody>
      </p:sp>
      <p:pic>
        <p:nvPicPr>
          <p:cNvPr id="91" name="Picture 5" descr="customised-cans"/>
          <p:cNvPicPr/>
          <p:nvPr/>
        </p:nvPicPr>
        <p:blipFill>
          <a:blip r:embed="rId1"/>
          <a:stretch/>
        </p:blipFill>
        <p:spPr>
          <a:xfrm>
            <a:off x="4643280" y="3141720"/>
            <a:ext cx="3810240" cy="28573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50920" y="475920"/>
            <a:ext cx="8640720" cy="5832360"/>
          </a:xfrm>
          <a:prstGeom prst="rect">
            <a:avLst/>
          </a:prstGeom>
          <a:solidFill>
            <a:srgbClr val="ffcc99"/>
          </a:solid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Η εποχή είναι έντονη, η ζωή κινείται με γρήγορους ρυθμούς, η εξέλιξη σε αυτοματοποιημένα ραγδαία και η έκφραση της τέχνης εκκεντρική. Νέα παιδιά και έφηβοι βρήκαν τον τρόπο: με έντονα χρώματα ομορφαίνουν του τοίχους της κάθε πόλης, τα ξεχασμένα βαγόνια και οτιδήποτε μπορεί να γίνει στο σκοτάδι. Αυτού του είδους η τέχνη είναι, όπως ξέρουμε όμως, παράνομη. Δεν υπάρχει πουθενά άδεια για γκραφίτι και έτσι οι μισογκρεμισμένοι τοίχοι, οι απαίσιες μάντρες που κοσμούν τις πόλεις, είναι πόλος έλξης για τους εκφραστές της συγκεκριμένης τέχνης. Η παράνομη πράξη, το σκοτάδι, το κρυφτό ανεβάζουν την αδρεναλίνη και οι μικροί ανώνυμοι δημιουργούν. Τελευταία όμως το γκραφίτι ξεφεύγει όλο και πιο συχνά από τα σχολεία, τις γέφυρες και τα εγκαταλελειμμένα φορτηγά. Οι τοίχοι που παραδίδονται "οικιοθελώς" στα ανελέητα σπρέι πληθαίνουν καθημερινά. Οι καλλιτέχνες των γκραφίτι αποκαλύπτονται δειλά δειλά, καθώς η τέχνη τους χάνει αναγκαστικά ένα μέρος από τον απρόβλεπτο χαρακτήρα της. </a:t>
            </a:r>
            <a:br>
              <a:rPr sz="2000"/>
            </a:br>
            <a:r>
              <a:rPr b="1" i="1" lang="el-GR" sz="2000" spc="-1" strike="noStrike">
                <a:solidFill>
                  <a:srgbClr val="000000"/>
                </a:solidFill>
                <a:latin typeface="Arial"/>
              </a:rPr>
              <a:t>Το στοίχημα που τίθεται είναι αν το γκραφίτι θα γίνει μόδα, μια τεχνοτροπία διακόσμησης ανάμεσα σε άλλες, ή αν θα παραμείνει μια αντισυμβατική μορφή τέχνης. Οι χρόνιοι εκπρόσωποί του πάντως υποστηρίζουν ότι το γκραφίτι δεν έχει καθιερωθεί ως μόδα.</a:t>
            </a:r>
            <a:br>
              <a:rPr sz="2000"/>
            </a:br>
            <a:r>
              <a:rPr b="1" i="1" lang="el-GR" sz="2000" spc="-1" strike="noStrike">
                <a:solidFill>
                  <a:srgbClr val="000000"/>
                </a:solidFill>
                <a:latin typeface="Arial"/>
              </a:rPr>
              <a:t> </a:t>
            </a:r>
            <a:endParaRPr b="0" lang="en-US" sz="2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Text Box 1"/>
          <p:cNvSpPr/>
          <p:nvPr/>
        </p:nvSpPr>
        <p:spPr>
          <a:xfrm>
            <a:off x="468360" y="0"/>
            <a:ext cx="8229600" cy="2104920"/>
          </a:xfrm>
          <a:prstGeom prst="rect">
            <a:avLst/>
          </a:prstGeom>
          <a:blipFill rotWithShape="0">
            <a:blip r:embed="rId2"/>
            <a:srcRect/>
            <a:tile tx="0" ty="0" sx="100000" sy="100000" algn="ctr"/>
          </a:blip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3200" spc="-1" strike="noStrike" u="sng">
                <a:solidFill>
                  <a:srgbClr val="000000"/>
                </a:solidFill>
                <a:uFillTx/>
                <a:latin typeface="Arial"/>
              </a:rPr>
              <a:t>Γιατί επιλέξαμε να κάνουμε εργασία με το συγκεκριμένο θέμα</a:t>
            </a:r>
            <a:endParaRPr b="0" lang="en-US" sz="3200" spc="-1" strike="noStrike">
              <a:solidFill>
                <a:srgbClr val="000000"/>
              </a:solidFill>
              <a:latin typeface="Arial"/>
            </a:endParaRPr>
          </a:p>
        </p:txBody>
      </p:sp>
      <p:sp>
        <p:nvSpPr>
          <p:cNvPr id="54" name="Text Box 2"/>
          <p:cNvSpPr/>
          <p:nvPr/>
        </p:nvSpPr>
        <p:spPr>
          <a:xfrm>
            <a:off x="468360" y="1844640"/>
            <a:ext cx="8229600" cy="452592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Γιατί το graffiti μας αρέσει ως μορφή τέχνης</a:t>
            </a:r>
            <a:endParaRPr b="0" lang="en-US" sz="2800" spc="-1" strike="noStrike">
              <a:solidFill>
                <a:srgbClr val="000000"/>
              </a:solidFill>
              <a:latin typeface="Arial"/>
            </a:endParaRPr>
          </a:p>
          <a:p>
            <a:pPr>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Επειδή είναι μόδα στη σύγχρονη εποχή, απασχολεί μεγάλο μέρος του πληθυσμού και σίγουρα αποτελεί ενδιαφέρον θέμα για εργασία</a:t>
            </a:r>
            <a:endParaRPr b="0" lang="en-US" sz="2800" spc="-1" strike="noStrike">
              <a:solidFill>
                <a:srgbClr val="000000"/>
              </a:solidFill>
              <a:latin typeface="Arial"/>
            </a:endParaRPr>
          </a:p>
          <a:p>
            <a:pPr>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Γιατί θέλαμε να κάνουμε κάτι πέρα απ' τα συνηθισμένα</a:t>
            </a:r>
            <a:endParaRPr b="0" lang="en-US" sz="2800" spc="-1" strike="noStrike">
              <a:solidFill>
                <a:srgbClr val="000000"/>
              </a:solidFill>
              <a:latin typeface="Arial"/>
            </a:endParaRPr>
          </a:p>
          <a:p>
            <a:pPr>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Arial"/>
              </a:rPr>
              <a:t>Επειδή και εμείς ενδιαφερόμαστε να μάθουμε κάτι περισσότερο για την τέχνη αυτή  </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5" descr="wackness"/>
          <p:cNvPicPr/>
          <p:nvPr/>
        </p:nvPicPr>
        <p:blipFill>
          <a:blip r:embed="rId1"/>
          <a:stretch/>
        </p:blipFill>
        <p:spPr>
          <a:xfrm>
            <a:off x="0" y="0"/>
            <a:ext cx="9144000" cy="685800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Βιβλιογραφία</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solidFill>
            <a:srgbClr val="ffff99"/>
          </a:solid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Arial"/>
              </a:rPr>
              <a:t>Από </a:t>
            </a:r>
            <a:r>
              <a:rPr b="1" i="1" lang="en-US" sz="2800" spc="-1" strike="noStrike" u="sng">
                <a:solidFill>
                  <a:srgbClr val="000000"/>
                </a:solidFill>
                <a:uFillTx/>
                <a:latin typeface="Arial"/>
              </a:rPr>
              <a:t>google:</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Online – ΤΕΧΝΕΣ</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k Inter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λευθεροτυπία - Στένσιλ γκραφίτι Η τεχνική της ρήξης</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Graffiti και συνθήματα - Σελίδα 3 - e-steki</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ube – cans</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ube - graffiti sto star</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κράφιτι – Βικιπαίδεια</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οδικό Υποβρύχιο - Γκράφιτι - Τεύχος 33</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6" descr="497496095_72fd96b232_2"/>
          <p:cNvPicPr/>
          <p:nvPr/>
        </p:nvPicPr>
        <p:blipFill>
          <a:blip r:embed="rId1"/>
          <a:stretch/>
        </p:blipFill>
        <p:spPr>
          <a:xfrm>
            <a:off x="0" y="0"/>
            <a:ext cx="9144000" cy="6858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5" descr="1210880-Christiania-Graffiti-0"/>
          <p:cNvPicPr/>
          <p:nvPr/>
        </p:nvPicPr>
        <p:blipFill>
          <a:blip r:embed="rId1"/>
          <a:stretch/>
        </p:blipFill>
        <p:spPr>
          <a:xfrm>
            <a:off x="0" y="0"/>
            <a:ext cx="9144000" cy="6858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360"/>
            <a:ext cx="8226360" cy="2103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4400" spc="-1" strike="noStrike" u="sng">
                <a:solidFill>
                  <a:srgbClr val="333399"/>
                </a:solidFill>
                <a:uFillTx/>
                <a:latin typeface="Arial"/>
              </a:rPr>
              <a:t>Tι είναι το graffiti</a:t>
            </a:r>
            <a:endParaRPr b="0" lang="en-US" sz="4400" spc="-1" strike="noStrike">
              <a:solidFill>
                <a:srgbClr val="000000"/>
              </a:solidFill>
              <a:latin typeface="Arial"/>
            </a:endParaRPr>
          </a:p>
        </p:txBody>
      </p:sp>
      <p:sp>
        <p:nvSpPr>
          <p:cNvPr id="57" name="Rectangle 4"/>
          <p:cNvSpPr/>
          <p:nvPr/>
        </p:nvSpPr>
        <p:spPr>
          <a:xfrm>
            <a:off x="755640" y="1183320"/>
            <a:ext cx="756144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993300"/>
                </a:solidFill>
                <a:latin typeface="Bradley Hand ITC"/>
              </a:rPr>
              <a:t>Δοκιμασμένη μέθοδος σε «λερωμένους» δρόμους. Τοίχοι γεμάτοι με μπογιές και σχέδια. Τα γκράφιτι είναι η τέχνη του δρόμου. Κραυγές αποτυπωμένες συνήθως με σπρέι από ομάδες νέων  που επιθυμούν να δώσουν το στίγμα τους στην ανώνυμη μουντάδα της πόλης. Πολλοί είναι αυτοί που δεν τους αρέσουν και τα θεωρούν μουντζούρες ενώ άλλοι τα θαυμάζουν και τα βλέπουν ως μικρά έργα τέχνης. Το γκράφιτι που σημαδεύει τις επιφάνειες της πόλης είναι ο απόγονος των συμβόλων και εικόνων που βρέθηκαν στις σπηλιές της προϊστορικής περιόδου και σα στόχο είχαν την υπενθύμιση της ανθρώπινης ύπαρξης στο χώρο αλλά και την επικοινωνία.</a:t>
            </a:r>
            <a:r>
              <a:rPr b="0" lang="en-GB" sz="2400" spc="-1" strike="noStrike">
                <a:solidFill>
                  <a:srgbClr val="000000"/>
                </a:solidFill>
                <a:latin typeface="Bradley Hand ITC"/>
              </a:rPr>
              <a:t> </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5" descr="graffiti2"/>
          <p:cNvPicPr/>
          <p:nvPr/>
        </p:nvPicPr>
        <p:blipFill>
          <a:blip r:embed="rId1"/>
          <a:stretch/>
        </p:blipFill>
        <p:spPr>
          <a:xfrm>
            <a:off x="0" y="0"/>
            <a:ext cx="9144000" cy="68580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536040"/>
            <a:ext cx="8232840" cy="62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i="1" lang="en-GB" sz="4000" spc="-1" strike="noStrike" u="sng">
                <a:solidFill>
                  <a:srgbClr val="333399"/>
                </a:solidFill>
                <a:uFillTx/>
                <a:latin typeface="Arial"/>
              </a:rPr>
              <a:t>Προέλευση τ</a:t>
            </a:r>
            <a:r>
              <a:rPr b="1" i="1" lang="el-GR" sz="4000" spc="-1" strike="noStrike" u="sng">
                <a:solidFill>
                  <a:srgbClr val="333399"/>
                </a:solidFill>
                <a:uFillTx/>
                <a:latin typeface="Arial"/>
              </a:rPr>
              <a:t>ης λέξης</a:t>
            </a:r>
            <a:r>
              <a:rPr b="1" i="1" lang="en-GB" sz="4000" spc="-1" strike="noStrike" u="sng">
                <a:solidFill>
                  <a:srgbClr val="333399"/>
                </a:solidFill>
                <a:uFillTx/>
                <a:latin typeface="Arial"/>
              </a:rPr>
              <a:t> Graffiti</a:t>
            </a:r>
            <a:r>
              <a:rPr b="0" lang="en-GB" sz="4000" spc="-1" strike="noStrike" u="sng">
                <a:solidFill>
                  <a:srgbClr val="000000"/>
                </a:solidFill>
                <a:uFillTx/>
                <a:latin typeface="Arial"/>
              </a:rPr>
              <a:t> </a:t>
            </a:r>
            <a:endParaRPr b="0" lang="en-US" sz="4000" spc="-1" strike="noStrike">
              <a:solidFill>
                <a:srgbClr val="000000"/>
              </a:solidFill>
              <a:latin typeface="Arial"/>
            </a:endParaRPr>
          </a:p>
        </p:txBody>
      </p:sp>
      <p:sp>
        <p:nvSpPr>
          <p:cNvPr id="60" name="Text Box 2"/>
          <p:cNvSpPr/>
          <p:nvPr/>
        </p:nvSpPr>
        <p:spPr>
          <a:xfrm>
            <a:off x="53964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3300"/>
                </a:solidFill>
                <a:latin typeface="Arial"/>
              </a:rPr>
              <a:t>Στην </a:t>
            </a:r>
            <a:r>
              <a:rPr b="0" lang="el-GR" sz="2000" spc="-1" strike="noStrike">
                <a:solidFill>
                  <a:srgbClr val="003300"/>
                </a:solidFill>
                <a:latin typeface="Arial"/>
              </a:rPr>
              <a:t>ελληνική γλωσσά</a:t>
            </a:r>
            <a:r>
              <a:rPr b="0" lang="en-GB" sz="2000" spc="-1" strike="noStrike">
                <a:solidFill>
                  <a:srgbClr val="003300"/>
                </a:solidFill>
                <a:latin typeface="Arial"/>
              </a:rPr>
              <a:t> χρησιμοποιείται συνήθως τονιζόμενο στην προπαραλήγουσα (γκράφιτι) ή σπανιότερα στην παραλήγουσα (γκραφίτι). Η ξένη λέξη graffiti είναι στον πληθυντικό, ενώ στον ενικό γίνεται graffito. Στην ελληνική γλώσσα είναι συνηθέστερη η χρήση του γκράφιτι και στον ενικό και στον πληθυντικό (άκλιτο – ως ξένη λέξη). Μια λιγότερο συνηθισμένη ορθογραφία είναι η ελληνοποιημένη μορφή "γράφιτη", "γκράφιτο" ή άτονο: "γραφιτι", "γκραφιτο".</a:t>
            </a:r>
            <a:endParaRPr b="0" lang="en-US" sz="2000" spc="-1" strike="noStrike">
              <a:solidFill>
                <a:srgbClr val="000000"/>
              </a:solidFill>
              <a:latin typeface="Arial"/>
            </a:endParaRPr>
          </a:p>
          <a:p>
            <a:pPr marL="339840" indent="-339840">
              <a:lnSpc>
                <a:spcPct val="8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3300"/>
                </a:solidFill>
                <a:latin typeface="Arial"/>
              </a:rPr>
              <a:t>     </a:t>
            </a:r>
            <a:r>
              <a:rPr b="0" lang="en-GB" sz="2000" spc="-1" strike="noStrike">
                <a:solidFill>
                  <a:srgbClr val="003300"/>
                </a:solidFill>
                <a:latin typeface="Arial"/>
              </a:rPr>
              <a:t>Για παράδειγμα, στα αγγλικά και βουλγάρικα τονίζεται στην παράλήγουσα. Το ίδιο και στα ελληνικά, κανονικά· τονίζεται στην παραλήγουσα αλλά είναι </a:t>
            </a:r>
            <a:r>
              <a:rPr b="1" lang="en-GB" sz="2000" spc="-1" strike="noStrike">
                <a:solidFill>
                  <a:srgbClr val="003300"/>
                </a:solidFill>
                <a:latin typeface="Arial"/>
              </a:rPr>
              <a:t>συνηθισμένο</a:t>
            </a:r>
            <a:r>
              <a:rPr b="0" lang="en-GB" sz="2000" spc="-1" strike="noStrike">
                <a:solidFill>
                  <a:srgbClr val="003300"/>
                </a:solidFill>
                <a:latin typeface="Arial"/>
              </a:rPr>
              <a:t> να τονίζεται στην προπαραλήγουσα.</a:t>
            </a:r>
            <a:endParaRPr b="0" lang="en-US" sz="2000" spc="-1" strike="noStrike">
              <a:solidFill>
                <a:srgbClr val="000000"/>
              </a:solidFill>
              <a:latin typeface="Arial"/>
            </a:endParaRPr>
          </a:p>
          <a:p>
            <a:pPr marL="339840" indent="-339840">
              <a:lnSpc>
                <a:spcPct val="80000"/>
              </a:lnSpc>
              <a:spcBef>
                <a:spcPts val="4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000" spc="-1" strike="noStrike">
                <a:solidFill>
                  <a:srgbClr val="003300"/>
                </a:solidFill>
                <a:latin typeface="Arial"/>
              </a:rPr>
              <a:t>     </a:t>
            </a:r>
            <a:r>
              <a:rPr b="0" lang="en-GB" sz="2000" spc="-1" strike="noStrike">
                <a:solidFill>
                  <a:srgbClr val="003300"/>
                </a:solidFill>
                <a:latin typeface="Arial"/>
              </a:rPr>
              <a:t>Οι ελληνικοί όροι που περιγράφουν εν μέρει το γκράφιτι είναι </a:t>
            </a:r>
            <a:r>
              <a:rPr b="0" i="1" lang="en-GB" sz="2000" spc="-1" strike="noStrike">
                <a:solidFill>
                  <a:srgbClr val="003300"/>
                </a:solidFill>
                <a:latin typeface="Arial"/>
              </a:rPr>
              <a:t>τοιχογράφημα</a:t>
            </a:r>
            <a:r>
              <a:rPr b="0" lang="en-GB" sz="2000" spc="-1" strike="noStrike">
                <a:solidFill>
                  <a:srgbClr val="003300"/>
                </a:solidFill>
                <a:latin typeface="Arial"/>
              </a:rPr>
              <a:t>, </a:t>
            </a:r>
            <a:r>
              <a:rPr b="0" i="1" lang="en-GB" sz="2000" spc="-1" strike="noStrike">
                <a:solidFill>
                  <a:srgbClr val="003300"/>
                </a:solidFill>
                <a:latin typeface="Arial"/>
              </a:rPr>
              <a:t>ακιδογράφημα</a:t>
            </a:r>
            <a:r>
              <a:rPr b="0" lang="en-GB" sz="2000" spc="-1" strike="noStrike">
                <a:solidFill>
                  <a:srgbClr val="003300"/>
                </a:solidFill>
                <a:latin typeface="Arial"/>
              </a:rPr>
              <a:t>. Στην </a:t>
            </a:r>
            <a:r>
              <a:rPr b="0" i="1" lang="el-GR" sz="2000" spc="-1" strike="noStrike">
                <a:solidFill>
                  <a:srgbClr val="003300"/>
                </a:solidFill>
                <a:latin typeface="Arial"/>
              </a:rPr>
              <a:t>αργκό</a:t>
            </a:r>
            <a:r>
              <a:rPr b="0" lang="en-GB" sz="2000" spc="-1" strike="noStrike">
                <a:solidFill>
                  <a:srgbClr val="003300"/>
                </a:solidFill>
                <a:latin typeface="Arial"/>
              </a:rPr>
              <a:t> των γκραφιτάδων η πράξη του να κάνεις γκράφιτι λέγεται συνήθως "βάψιμο".</a:t>
            </a: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5" descr="cartoon_graffiti-perso"/>
          <p:cNvPicPr/>
          <p:nvPr/>
        </p:nvPicPr>
        <p:blipFill>
          <a:blip r:embed="rId1"/>
          <a:stretch/>
        </p:blipFill>
        <p:spPr>
          <a:xfrm>
            <a:off x="0" y="0"/>
            <a:ext cx="9144000" cy="68580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9933ff"/>
                </a:solidFill>
                <a:uFillTx/>
                <a:latin typeface="Arial"/>
              </a:rPr>
              <a:t>Ιστορία του </a:t>
            </a:r>
            <a:r>
              <a:rPr b="1" i="1" lang="de-DE" sz="4400" spc="-1" strike="noStrike" u="sng">
                <a:solidFill>
                  <a:srgbClr val="9933ff"/>
                </a:solidFill>
                <a:uFillTx/>
                <a:latin typeface="Arial"/>
              </a:rPr>
              <a:t>Graffiti</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250920" y="1600200"/>
            <a:ext cx="8353440" cy="4565520"/>
          </a:xfrm>
          <a:prstGeom prst="rect">
            <a:avLst/>
          </a:prstGeom>
          <a:noFill/>
          <a:ln w="0">
            <a:noFill/>
          </a:ln>
        </p:spPr>
        <p:txBody>
          <a:bodyPr anchor="t">
            <a:normAutofit/>
          </a:bodyPr>
          <a:p>
            <a:pPr marL="343080" indent="-343080">
              <a:lnSpc>
                <a:spcPct val="80000"/>
              </a:lnSpc>
              <a:spcBef>
                <a:spcPts val="45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9933ff"/>
                </a:solidFill>
                <a:latin typeface="Arial"/>
              </a:rPr>
              <a:t>Ο δρόμος είχε τη δική του ιστορία κι αυτός που πρώτος την έγραψε στον τοίχο με μπογιά, δεν ήταν άλλος από τον ελληνικής καταγωγής Δημήτρη που υπέγραφε τα έργα του με το ψευδώνυμο </a:t>
            </a:r>
            <a:r>
              <a:rPr b="0" lang="en-US" sz="1800" spc="-1" strike="noStrike">
                <a:solidFill>
                  <a:srgbClr val="9933ff"/>
                </a:solidFill>
                <a:latin typeface="Arial"/>
              </a:rPr>
              <a:t>t</a:t>
            </a:r>
            <a:r>
              <a:rPr b="0" lang="de-DE" sz="1800" spc="-1" strike="noStrike">
                <a:solidFill>
                  <a:srgbClr val="9933ff"/>
                </a:solidFill>
                <a:latin typeface="Arial"/>
              </a:rPr>
              <a:t>aki </a:t>
            </a:r>
            <a:r>
              <a:rPr b="0" lang="el-GR" sz="1800" spc="-1" strike="noStrike">
                <a:solidFill>
                  <a:srgbClr val="9933ff"/>
                </a:solidFill>
                <a:latin typeface="Arial"/>
              </a:rPr>
              <a:t>183 έχοντας γεμίσει με σχέδια τον υπόγειο σιδηρόδρομο της Νέας Υόρκης. Ο αριθμός δήλωνε τον αριθμό του δρόμου στον οποίο διέμενε. Ανάλογα υπέγραφαν τα έργα τους και όλοι οι υπόλοιποι γκραφιτάδες που ακολούθησαν. Το </a:t>
            </a:r>
            <a:r>
              <a:rPr b="0" lang="de-DE" sz="1800" spc="-1" strike="noStrike">
                <a:solidFill>
                  <a:srgbClr val="9933ff"/>
                </a:solidFill>
                <a:latin typeface="Arial"/>
              </a:rPr>
              <a:t>Graffiti</a:t>
            </a:r>
            <a:r>
              <a:rPr b="0" lang="el-GR" sz="1800" spc="-1" strike="noStrike">
                <a:solidFill>
                  <a:srgbClr val="9933ff"/>
                </a:solidFill>
                <a:latin typeface="Arial"/>
              </a:rPr>
              <a:t> γεννήθηκε το 1960 στη Νέα Υόρκη. Παράξενες συνθέσεις γραμμάτων και ήρωες των κόμικς άρχισαν να καλύπτουν τα βαγόνια του υπογείου μετατρέποντας τους συρμούς σε κινούμενα κόμικ στριπ. Ο αστικός χώρος της πόλης ήταν διασπασμένος εθνικά, φυλετικά, ταξικά. Τα γκέτο της Νέας Υόρκης ήταν γεγονός. Τη δεκαετία '70-'80 το </a:t>
            </a:r>
            <a:r>
              <a:rPr b="0" lang="de-DE" sz="1800" spc="-1" strike="noStrike">
                <a:solidFill>
                  <a:srgbClr val="9933ff"/>
                </a:solidFill>
                <a:latin typeface="Arial"/>
              </a:rPr>
              <a:t>Graffiti</a:t>
            </a:r>
            <a:r>
              <a:rPr b="0" lang="el-GR" sz="1800" spc="-1" strike="noStrike">
                <a:solidFill>
                  <a:srgbClr val="9933ff"/>
                </a:solidFill>
                <a:latin typeface="Arial"/>
              </a:rPr>
              <a:t> υπήρξε το μέσο οριοθέτησης των απομονωμένων συνοικιών της πόλης από ομάδες νεαρών </a:t>
            </a:r>
            <a:r>
              <a:rPr b="0" lang="de-DE" sz="1800" spc="-1" strike="noStrike">
                <a:solidFill>
                  <a:srgbClr val="9933ff"/>
                </a:solidFill>
                <a:latin typeface="Arial"/>
              </a:rPr>
              <a:t>gangs </a:t>
            </a:r>
            <a:r>
              <a:rPr b="0" lang="el-GR" sz="1800" spc="-1" strike="noStrike">
                <a:solidFill>
                  <a:srgbClr val="9933ff"/>
                </a:solidFill>
                <a:latin typeface="Arial"/>
              </a:rPr>
              <a:t>που τις έλεγχαν. Οι έφηβοι δε διαμαρτύρονταν για το κοινωνικό και πολιτικό προσκήνιο, αλλά διεκδικούσαν την ταυτότητά τους μέσα στην κοινωνία. Αν και οι επίσημες αρχές κήρυξαν το </a:t>
            </a:r>
            <a:r>
              <a:rPr b="0" lang="de-DE" sz="1800" spc="-1" strike="noStrike">
                <a:solidFill>
                  <a:srgbClr val="9933ff"/>
                </a:solidFill>
                <a:latin typeface="Arial"/>
              </a:rPr>
              <a:t>grafiti </a:t>
            </a:r>
            <a:r>
              <a:rPr b="0" lang="el-GR" sz="1800" spc="-1" strike="noStrike">
                <a:solidFill>
                  <a:srgbClr val="9933ff"/>
                </a:solidFill>
                <a:latin typeface="Arial"/>
              </a:rPr>
              <a:t>παράνομο εξαιτίας της σχέσης του με τα γκέτο και τις συμμορίες, οι κριτικοί τέχνης του </a:t>
            </a:r>
            <a:r>
              <a:rPr b="0" lang="de-DE" sz="1800" spc="-1" strike="noStrike">
                <a:solidFill>
                  <a:srgbClr val="9933ff"/>
                </a:solidFill>
                <a:latin typeface="Arial"/>
              </a:rPr>
              <a:t>Manhattan</a:t>
            </a:r>
            <a:r>
              <a:rPr b="0" lang="el-GR" sz="1800" spc="-1" strike="noStrike">
                <a:solidFill>
                  <a:srgbClr val="9933ff"/>
                </a:solidFill>
                <a:latin typeface="Arial"/>
              </a:rPr>
              <a:t> ξεκίνησαν να το αναγνωρίζουν ως πρωτοπορία στο χώρο της τέχνης. Το </a:t>
            </a:r>
            <a:r>
              <a:rPr b="0" lang="de-DE" sz="1800" spc="-1" strike="noStrike">
                <a:solidFill>
                  <a:srgbClr val="9933ff"/>
                </a:solidFill>
                <a:latin typeface="Arial"/>
              </a:rPr>
              <a:t>Graffiti</a:t>
            </a:r>
            <a:r>
              <a:rPr b="0" lang="el-GR" sz="1800" spc="-1" strike="noStrike">
                <a:solidFill>
                  <a:srgbClr val="9933ff"/>
                </a:solidFill>
                <a:latin typeface="Arial"/>
              </a:rPr>
              <a:t> έγινε το μέσο έκφρασης της κουλτούρας του δρόμου και ταυτόχρονα αποτέλεσε ένα </a:t>
            </a:r>
            <a:r>
              <a:rPr b="0" lang="de-DE" sz="1800" spc="-1" strike="noStrike">
                <a:solidFill>
                  <a:srgbClr val="9933ff"/>
                </a:solidFill>
                <a:latin typeface="Arial"/>
              </a:rPr>
              <a:t>Underground</a:t>
            </a:r>
            <a:r>
              <a:rPr b="0" lang="el-GR" sz="1800" spc="-1" strike="noStrike">
                <a:solidFill>
                  <a:srgbClr val="9933ff"/>
                </a:solidFill>
                <a:latin typeface="Arial"/>
              </a:rPr>
              <a:t> κίνημα το οποίο σύντομα εξαπλώθηκε και στον υπόλοιπο κόσμο.</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12</dc:creator>
  <dc:description/>
  <dc:language>en-US</dc:language>
  <cp:lastModifiedBy>user</cp:lastModifiedBy>
  <dcterms:modified xsi:type="dcterms:W3CDTF">2012-10-22T09:35:59Z</dcterms:modified>
  <cp:revision>26</cp:revision>
  <dc:subject/>
  <dc:title>Διαφάνεια 1</dc:title>
</cp:coreProperties>
</file>